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9A5-D94F-4937-B794-BE0606BE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72D-8377-4154-A9C7-C254380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C6C-B1F3-4D57-B02C-006EFCC3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788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996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788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996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64B-1B5E-4D2F-8D12-0988E8C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FBE8-7F62-4A47-B2B2-B57C81D8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8CE-7FB2-445C-B5D9-BBBA246D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B457-BCC6-41A3-A97D-C5A503D7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94EE-668F-49A6-A403-8BA34B1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C6CB-FA61-47D2-A8AD-EA269628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440" y="260280"/>
            <a:ext cx="6870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2C14-9B50-4B7A-BE14-05BD352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5B83-060F-4D65-BBE6-4831CC2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8CA-C5C0-4286-8A9F-4B3AF13B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0FE8-5AE4-45EC-A6A6-173D7557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880C-2729-4C00-9351-6F6B1D7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179-BC28-4878-AB8E-E6B3E36D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5AB0-C623-487D-8818-F40FB07B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8788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889960" y="141300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8788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889960" y="3895560"/>
            <a:ext cx="247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B96-9E8A-402C-BCBD-52EBE77C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7F6-486C-4D16-A53C-A656A63F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33F-D335-48D4-ACD6-77C87A2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26B-3920-4BC7-9A2F-6EF48B7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260280"/>
            <a:ext cx="6870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BEB-B08F-4D7C-8CFB-3F8F197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C5F-6068-4E15-A902-C944157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29600" y="389556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307-A84A-4E7B-99A4-E00236DE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413000"/>
            <a:ext cx="37555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560"/>
            <a:ext cx="7696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2B8-80C0-44CB-8829-DA548AF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68A5-5C21-4BB3-9AE9-C38B14AD172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9280" y="6021360"/>
            <a:ext cx="1008000" cy="576360"/>
            <a:chOff x="179280" y="6021360"/>
            <a:chExt cx="1008000" cy="576360"/>
          </a:xfrm>
        </p:grpSpPr>
        <p:sp>
          <p:nvSpPr>
            <p:cNvPr id="6" name=""/>
            <p:cNvSpPr/>
            <p:nvPr/>
          </p:nvSpPr>
          <p:spPr>
            <a:xfrm>
              <a:off x="196200" y="6032160"/>
              <a:ext cx="976320" cy="4762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91160" y="6088680"/>
              <a:ext cx="63360" cy="943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2600" y="6229800"/>
              <a:ext cx="710280" cy="300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0520" y="6254640"/>
              <a:ext cx="470520" cy="2743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80" y="6051960"/>
              <a:ext cx="120960" cy="889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49520" y="6515640"/>
              <a:ext cx="68040" cy="820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6760" y="6107040"/>
              <a:ext cx="172800" cy="2811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3640" y="6094800"/>
              <a:ext cx="326160" cy="127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40" y="6170400"/>
              <a:ext cx="139680" cy="489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179280" y="6021360"/>
              <a:ext cx="1008000" cy="572400"/>
              <a:chOff x="179280" y="6021360"/>
              <a:chExt cx="1008000" cy="57240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622080" y="6073920"/>
                <a:ext cx="491400" cy="519840"/>
                <a:chOff x="622080" y="6073920"/>
                <a:chExt cx="491400" cy="51984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622080" y="6092280"/>
                  <a:ext cx="140760" cy="6372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44840" y="6496200"/>
                  <a:ext cx="102960" cy="975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74960" y="6073920"/>
                  <a:ext cx="38520" cy="856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242640" y="6198840"/>
                <a:ext cx="533520" cy="183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07880" y="6311880"/>
                <a:ext cx="218520" cy="108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81120" y="6160680"/>
                <a:ext cx="95760" cy="1746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179280" y="6021360"/>
                <a:ext cx="1008000" cy="497880"/>
                <a:chOff x="179280" y="6021360"/>
                <a:chExt cx="1008000" cy="4978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774720" y="6431040"/>
                  <a:ext cx="66960" cy="6372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179280" y="6195960"/>
                  <a:ext cx="754920" cy="32328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269640" y="6226920"/>
                  <a:ext cx="71640" cy="1224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577440" y="6021360"/>
                  <a:ext cx="288720" cy="4359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000" y="6138720"/>
                  <a:ext cx="85680" cy="1850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468720" y="6123960"/>
                  <a:ext cx="174600" cy="990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65000" y="6056640"/>
                  <a:ext cx="422280" cy="15552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17560" y="6106320"/>
                  <a:ext cx="219600" cy="63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7697160" y="32400"/>
            <a:ext cx="1783080" cy="1615320"/>
            <a:chOff x="7697160" y="32400"/>
            <a:chExt cx="1783080" cy="1615320"/>
          </a:xfrm>
        </p:grpSpPr>
        <p:sp>
          <p:nvSpPr>
            <p:cNvPr id="36" name=""/>
            <p:cNvSpPr/>
            <p:nvPr/>
          </p:nvSpPr>
          <p:spPr>
            <a:xfrm rot="18427200">
              <a:off x="8157600" y="59400"/>
              <a:ext cx="795960" cy="1540800"/>
            </a:xfrm>
            <a:custGeom>
              <a:avLst/>
              <a:gdLst/>
              <a:ahLst/>
              <a:rect l="l" t="t" r="r" b="b"/>
              <a:pathLst>
                <a:path w="2903" h="3686">
                  <a:moveTo>
                    <a:pt x="2903" y="433"/>
                  </a:moveTo>
                  <a:lnTo>
                    <a:pt x="2565" y="80"/>
                  </a:lnTo>
                  <a:lnTo>
                    <a:pt x="2241" y="0"/>
                  </a:lnTo>
                  <a:lnTo>
                    <a:pt x="110" y="2811"/>
                  </a:lnTo>
                  <a:lnTo>
                    <a:pt x="110" y="3228"/>
                  </a:lnTo>
                  <a:lnTo>
                    <a:pt x="0" y="3631"/>
                  </a:lnTo>
                  <a:lnTo>
                    <a:pt x="72" y="3686"/>
                  </a:lnTo>
                  <a:lnTo>
                    <a:pt x="441" y="3355"/>
                  </a:lnTo>
                  <a:lnTo>
                    <a:pt x="740" y="3228"/>
                  </a:lnTo>
                  <a:lnTo>
                    <a:pt x="2903" y="433"/>
                  </a:lnTo>
                  <a:lnTo>
                    <a:pt x="2903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427200">
              <a:off x="8222400" y="86400"/>
              <a:ext cx="798120" cy="1550160"/>
            </a:xfrm>
            <a:custGeom>
              <a:avLst/>
              <a:gdLst/>
              <a:ahLst/>
              <a:rect l="l" t="t" r="r" b="b"/>
              <a:pathLst>
                <a:path w="2911" h="3703">
                  <a:moveTo>
                    <a:pt x="2293" y="0"/>
                  </a:moveTo>
                  <a:lnTo>
                    <a:pt x="130" y="2835"/>
                  </a:lnTo>
                  <a:lnTo>
                    <a:pt x="131" y="3201"/>
                  </a:lnTo>
                  <a:lnTo>
                    <a:pt x="0" y="3633"/>
                  </a:lnTo>
                  <a:lnTo>
                    <a:pt x="50" y="3703"/>
                  </a:lnTo>
                  <a:lnTo>
                    <a:pt x="422" y="3352"/>
                  </a:lnTo>
                  <a:lnTo>
                    <a:pt x="763" y="3220"/>
                  </a:lnTo>
                  <a:lnTo>
                    <a:pt x="2911" y="428"/>
                  </a:lnTo>
                  <a:lnTo>
                    <a:pt x="2589" y="96"/>
                  </a:lnTo>
                  <a:lnTo>
                    <a:pt x="2293" y="0"/>
                  </a:lnTo>
                  <a:lnTo>
                    <a:pt x="2293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427200">
              <a:off x="8192880" y="216360"/>
              <a:ext cx="702720" cy="1161360"/>
            </a:xfrm>
            <a:custGeom>
              <a:avLst/>
              <a:gdLst/>
              <a:ahLst/>
              <a:rect l="l" t="t" r="r" b="b"/>
              <a:pathLst>
                <a:path w="2561" h="2777">
                  <a:moveTo>
                    <a:pt x="0" y="2485"/>
                  </a:moveTo>
                  <a:lnTo>
                    <a:pt x="432" y="2553"/>
                  </a:lnTo>
                  <a:lnTo>
                    <a:pt x="736" y="2777"/>
                  </a:lnTo>
                  <a:lnTo>
                    <a:pt x="2561" y="399"/>
                  </a:lnTo>
                  <a:lnTo>
                    <a:pt x="2118" y="82"/>
                  </a:lnTo>
                  <a:lnTo>
                    <a:pt x="1898" y="0"/>
                  </a:lnTo>
                  <a:lnTo>
                    <a:pt x="0" y="2485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7697160" y="32400"/>
              <a:ext cx="1754640" cy="1608840"/>
              <a:chOff x="7697160" y="32400"/>
              <a:chExt cx="1754640" cy="1608840"/>
            </a:xfrm>
          </p:grpSpPr>
          <p:grpSp>
            <p:nvGrpSpPr>
              <p:cNvPr id="40" name=""/>
              <p:cNvGrpSpPr/>
              <p:nvPr/>
            </p:nvGrpSpPr>
            <p:grpSpPr>
              <a:xfrm>
                <a:off x="7697160" y="32400"/>
                <a:ext cx="1754640" cy="1608840"/>
                <a:chOff x="7697160" y="32400"/>
                <a:chExt cx="1754640" cy="1608840"/>
              </a:xfrm>
            </p:grpSpPr>
            <p:sp>
              <p:nvSpPr>
                <p:cNvPr id="41" name=""/>
                <p:cNvSpPr/>
                <p:nvPr/>
              </p:nvSpPr>
              <p:spPr>
                <a:xfrm rot="18427200">
                  <a:off x="8750160" y="1295280"/>
                  <a:ext cx="67320" cy="337680"/>
                </a:xfrm>
                <a:custGeom>
                  <a:avLst/>
                  <a:gdLst/>
                  <a:ahLst/>
                  <a:rect l="l" t="t" r="r" b="b"/>
                  <a:pathLst>
                    <a:path w="245" h="806">
                      <a:moveTo>
                        <a:pt x="123" y="9"/>
                      </a:moveTo>
                      <a:lnTo>
                        <a:pt x="131" y="342"/>
                      </a:lnTo>
                      <a:lnTo>
                        <a:pt x="0" y="806"/>
                      </a:lnTo>
                      <a:lnTo>
                        <a:pt x="79" y="789"/>
                      </a:lnTo>
                      <a:lnTo>
                        <a:pt x="218" y="376"/>
                      </a:lnTo>
                      <a:lnTo>
                        <a:pt x="245" y="0"/>
                      </a:lnTo>
                      <a:lnTo>
                        <a:pt x="123" y="9"/>
                      </a:lnTo>
                      <a:lnTo>
                        <a:pt x="1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" name=""/>
                <p:cNvGrpSpPr/>
                <p:nvPr/>
              </p:nvGrpSpPr>
              <p:grpSpPr>
                <a:xfrm>
                  <a:off x="7697160" y="32400"/>
                  <a:ext cx="1754640" cy="1608840"/>
                  <a:chOff x="7697160" y="32400"/>
                  <a:chExt cx="1754640" cy="16088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rot="18427200">
                    <a:off x="8210160" y="198360"/>
                    <a:ext cx="16632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349">
                        <a:moveTo>
                          <a:pt x="0" y="0"/>
                        </a:moveTo>
                        <a:lnTo>
                          <a:pt x="298" y="184"/>
                        </a:lnTo>
                        <a:lnTo>
                          <a:pt x="500" y="349"/>
                        </a:lnTo>
                        <a:lnTo>
                          <a:pt x="604" y="140"/>
                        </a:lnTo>
                        <a:lnTo>
                          <a:pt x="359" y="9"/>
                        </a:lnTo>
                        <a:lnTo>
                          <a:pt x="464" y="184"/>
                        </a:lnTo>
                        <a:lnTo>
                          <a:pt x="131" y="1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rot="18427200">
                    <a:off x="8311320" y="468000"/>
                    <a:ext cx="29268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1230">
                        <a:moveTo>
                          <a:pt x="741" y="129"/>
                        </a:moveTo>
                        <a:lnTo>
                          <a:pt x="485" y="352"/>
                        </a:lnTo>
                        <a:lnTo>
                          <a:pt x="163" y="762"/>
                        </a:lnTo>
                        <a:lnTo>
                          <a:pt x="0" y="1101"/>
                        </a:lnTo>
                        <a:lnTo>
                          <a:pt x="59" y="1230"/>
                        </a:lnTo>
                        <a:lnTo>
                          <a:pt x="262" y="1201"/>
                        </a:lnTo>
                        <a:lnTo>
                          <a:pt x="578" y="914"/>
                        </a:lnTo>
                        <a:lnTo>
                          <a:pt x="876" y="534"/>
                        </a:lnTo>
                        <a:lnTo>
                          <a:pt x="1034" y="270"/>
                        </a:lnTo>
                        <a:lnTo>
                          <a:pt x="1064" y="84"/>
                        </a:lnTo>
                        <a:lnTo>
                          <a:pt x="977" y="0"/>
                        </a:lnTo>
                        <a:lnTo>
                          <a:pt x="836" y="65"/>
                        </a:lnTo>
                        <a:lnTo>
                          <a:pt x="969" y="107"/>
                        </a:lnTo>
                        <a:lnTo>
                          <a:pt x="876" y="352"/>
                        </a:lnTo>
                        <a:lnTo>
                          <a:pt x="690" y="656"/>
                        </a:lnTo>
                        <a:lnTo>
                          <a:pt x="350" y="1008"/>
                        </a:lnTo>
                        <a:lnTo>
                          <a:pt x="116" y="1114"/>
                        </a:lnTo>
                        <a:lnTo>
                          <a:pt x="135" y="943"/>
                        </a:lnTo>
                        <a:lnTo>
                          <a:pt x="437" y="504"/>
                        </a:lnTo>
                        <a:lnTo>
                          <a:pt x="831" y="118"/>
                        </a:lnTo>
                        <a:lnTo>
                          <a:pt x="741" y="129"/>
                        </a:lnTo>
                        <a:lnTo>
                          <a:pt x="741" y="1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 rot="18427200">
                    <a:off x="8099280" y="285480"/>
                    <a:ext cx="549000" cy="10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2" h="2521">
                        <a:moveTo>
                          <a:pt x="1941" y="0"/>
                        </a:moveTo>
                        <a:lnTo>
                          <a:pt x="0" y="2521"/>
                        </a:lnTo>
                        <a:lnTo>
                          <a:pt x="192" y="2450"/>
                        </a:lnTo>
                        <a:lnTo>
                          <a:pt x="2002" y="61"/>
                        </a:lnTo>
                        <a:lnTo>
                          <a:pt x="1941" y="0"/>
                        </a:lnTo>
                        <a:lnTo>
                          <a:pt x="19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 rot="18427200">
                    <a:off x="8162280" y="48240"/>
                    <a:ext cx="824400" cy="157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7" h="3771">
                        <a:moveTo>
                          <a:pt x="95" y="2844"/>
                        </a:moveTo>
                        <a:lnTo>
                          <a:pt x="394" y="2834"/>
                        </a:lnTo>
                        <a:lnTo>
                          <a:pt x="821" y="3009"/>
                        </a:lnTo>
                        <a:lnTo>
                          <a:pt x="681" y="2817"/>
                        </a:lnTo>
                        <a:lnTo>
                          <a:pt x="367" y="2703"/>
                        </a:lnTo>
                        <a:lnTo>
                          <a:pt x="637" y="2720"/>
                        </a:lnTo>
                        <a:lnTo>
                          <a:pt x="979" y="2870"/>
                        </a:lnTo>
                        <a:lnTo>
                          <a:pt x="2859" y="420"/>
                        </a:lnTo>
                        <a:lnTo>
                          <a:pt x="2578" y="148"/>
                        </a:lnTo>
                        <a:lnTo>
                          <a:pt x="2308" y="0"/>
                        </a:lnTo>
                        <a:lnTo>
                          <a:pt x="2692" y="78"/>
                        </a:lnTo>
                        <a:lnTo>
                          <a:pt x="3007" y="428"/>
                        </a:lnTo>
                        <a:lnTo>
                          <a:pt x="831" y="3273"/>
                        </a:lnTo>
                        <a:lnTo>
                          <a:pt x="481" y="3412"/>
                        </a:lnTo>
                        <a:lnTo>
                          <a:pt x="105" y="3771"/>
                        </a:lnTo>
                        <a:lnTo>
                          <a:pt x="0" y="3667"/>
                        </a:lnTo>
                        <a:lnTo>
                          <a:pt x="131" y="3631"/>
                        </a:lnTo>
                        <a:lnTo>
                          <a:pt x="376" y="3385"/>
                        </a:lnTo>
                        <a:lnTo>
                          <a:pt x="165" y="3273"/>
                        </a:lnTo>
                        <a:lnTo>
                          <a:pt x="165" y="3176"/>
                        </a:lnTo>
                        <a:lnTo>
                          <a:pt x="411" y="3298"/>
                        </a:lnTo>
                        <a:lnTo>
                          <a:pt x="411" y="3186"/>
                        </a:lnTo>
                        <a:lnTo>
                          <a:pt x="603" y="3220"/>
                        </a:lnTo>
                        <a:lnTo>
                          <a:pt x="428" y="3079"/>
                        </a:lnTo>
                        <a:lnTo>
                          <a:pt x="629" y="3062"/>
                        </a:lnTo>
                        <a:lnTo>
                          <a:pt x="95" y="2844"/>
                        </a:lnTo>
                        <a:lnTo>
                          <a:pt x="95" y="28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8427200">
                    <a:off x="8599680" y="1096560"/>
                    <a:ext cx="1836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342">
                        <a:moveTo>
                          <a:pt x="0" y="80"/>
                        </a:moveTo>
                        <a:lnTo>
                          <a:pt x="255" y="106"/>
                        </a:lnTo>
                        <a:lnTo>
                          <a:pt x="639" y="342"/>
                        </a:lnTo>
                        <a:lnTo>
                          <a:pt x="673" y="289"/>
                        </a:lnTo>
                        <a:lnTo>
                          <a:pt x="447" y="114"/>
                        </a:lnTo>
                        <a:lnTo>
                          <a:pt x="26" y="0"/>
                        </a:lnTo>
                        <a:lnTo>
                          <a:pt x="0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8427200">
                    <a:off x="8548560" y="996120"/>
                    <a:ext cx="19692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403">
                        <a:moveTo>
                          <a:pt x="0" y="78"/>
                        </a:moveTo>
                        <a:lnTo>
                          <a:pt x="340" y="148"/>
                        </a:lnTo>
                        <a:lnTo>
                          <a:pt x="638" y="403"/>
                        </a:lnTo>
                        <a:lnTo>
                          <a:pt x="716" y="296"/>
                        </a:lnTo>
                        <a:lnTo>
                          <a:pt x="420" y="114"/>
                        </a:lnTo>
                        <a:lnTo>
                          <a:pt x="70" y="0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8427200">
                    <a:off x="8233560" y="348840"/>
                    <a:ext cx="1965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7" h="411">
                        <a:moveTo>
                          <a:pt x="0" y="78"/>
                        </a:moveTo>
                        <a:lnTo>
                          <a:pt x="316" y="139"/>
                        </a:lnTo>
                        <a:lnTo>
                          <a:pt x="649" y="411"/>
                        </a:lnTo>
                        <a:lnTo>
                          <a:pt x="717" y="314"/>
                        </a:lnTo>
                        <a:lnTo>
                          <a:pt x="394" y="87"/>
                        </a:lnTo>
                        <a:lnTo>
                          <a:pt x="54" y="0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8427200">
                    <a:off x="8190360" y="274680"/>
                    <a:ext cx="1944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9" h="386">
                        <a:moveTo>
                          <a:pt x="0" y="88"/>
                        </a:moveTo>
                        <a:lnTo>
                          <a:pt x="272" y="131"/>
                        </a:lnTo>
                        <a:lnTo>
                          <a:pt x="665" y="386"/>
                        </a:lnTo>
                        <a:lnTo>
                          <a:pt x="709" y="308"/>
                        </a:lnTo>
                        <a:lnTo>
                          <a:pt x="306" y="53"/>
                        </a:lnTo>
                        <a:lnTo>
                          <a:pt x="43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" name=""/>
              <p:cNvSpPr/>
              <p:nvPr/>
            </p:nvSpPr>
            <p:spPr>
              <a:xfrm>
                <a:off x="8091000" y="218160"/>
                <a:ext cx="49320" cy="10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539640" y="1125360"/>
            <a:ext cx="77774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640"/>
            <a:ext cx="0" cy="28872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FE9-BA1F-4962-B4AF-C1A926A44A0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0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1628280"/>
            <a:ext cx="72723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Wearing the hair shirt</a:t>
            </a:r>
            <a:br>
              <a:rPr sz="48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 retrospective on Haskell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on Peyton J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Research, Cambri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ideas from other langu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4390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compreh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3141720"/>
            <a:ext cx="525600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d :: [a]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ead (x:xs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1916280"/>
            <a:ext cx="56880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(x,y) | x &lt;- xs, y &lt;- ys, x+y &lt; 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2565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 type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Y infix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6093000"/>
            <a:ext cx="2376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`map`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64000" y="4365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on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4941720"/>
            <a:ext cx="237672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t x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 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6165720"/>
            <a:ext cx="5111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t { x = 3; y = 4} in x+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4724280"/>
            <a:ext cx="30956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True tru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149720"/>
            <a:ext cx="51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 case constr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at vs th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530280" y="1389240"/>
            <a:ext cx="357624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Express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1389240"/>
            <a:ext cx="504180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Declaration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 arguments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-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41320" y="4581360"/>
            <a:ext cx="746136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LPJ’s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ntactic redundancy is a big 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ny Hoare’s comment “I fear that Haskell is doomed to succe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claration style”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a function as a series of independen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2778120"/>
            <a:ext cx="4681440" cy="703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f []     =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f (x:xs) = f x : map f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3933720"/>
            <a:ext cx="45734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 x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&gt;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==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700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| x&lt;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xpression style”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a function as an expr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1976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2413080"/>
            <a:ext cx="63374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p = \f xs -&gt; case x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]     -&gt;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x:xs) -&gt; map f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3789360"/>
            <a:ext cx="583272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 = \x -&gt; if x&gt;0 the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x==0 the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7640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xample (ICFP02 prog comp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2413080" y="2095560"/>
            <a:ext cx="5975280" cy="447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_help item@(Item cur_loc cur_link _)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cur_length &gt; limi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Beyond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sp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Just vis_link &lt;- lookupVisited vis cur_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Already visited; update the 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map if cur_link is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cur_length &gt;= linkLength vis_link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Current link is no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p wq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Current link is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mit vis item ++ sp wq v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 otherwis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Not visited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= emit vis item ++ sp wq' vi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is’ =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q   =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1994040"/>
            <a:ext cx="1296720" cy="397080"/>
          </a:xfrm>
          <a:prstGeom prst="wedgeRoundRectCallout">
            <a:avLst>
              <a:gd name="adj1" fmla="val 107643"/>
              <a:gd name="adj2" fmla="val 8070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1080" y="2481120"/>
            <a:ext cx="1296720" cy="693720"/>
          </a:xfrm>
          <a:prstGeom prst="wedgeRoundRectCallout">
            <a:avLst>
              <a:gd name="adj1" fmla="val 131986"/>
              <a:gd name="adj2" fmla="val 1913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tern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61080" y="1197000"/>
            <a:ext cx="1297080" cy="693720"/>
          </a:xfrm>
          <a:prstGeom prst="wedgeRoundRectCallout">
            <a:avLst>
              <a:gd name="adj1" fmla="val -207879"/>
              <a:gd name="adj2" fmla="val 7831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ttern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8000" y="3716280"/>
            <a:ext cx="1512720" cy="693720"/>
          </a:xfrm>
          <a:prstGeom prst="wedgeRoundRectCallout">
            <a:avLst>
              <a:gd name="adj1" fmla="val 131416"/>
              <a:gd name="adj2" fmla="val -5181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5146560"/>
            <a:ext cx="1513080" cy="693720"/>
          </a:xfrm>
          <a:prstGeom prst="wedgeRoundRectCallout">
            <a:avLst>
              <a:gd name="adj1" fmla="val 107393"/>
              <a:gd name="adj2" fmla="val 6353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87280" y="2284560"/>
            <a:ext cx="6767640" cy="2287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important or interesting about Haske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 much for syntax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really matter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Lazines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Type classes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dff"/>
                </a:solidFill>
                <a:latin typeface="Comic Sans MS"/>
              </a:rPr>
              <a:t>Sexy typ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zi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n Hughes’s famous paper “Why functional programming matter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ar programming needs powerful g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zy evaluation enables new forms of modularity; in particular, separat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gene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strict semantics means that unrestricted beta substitution is O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.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makes it much, much harder to reason about performance, especially space.  Tricky uses of seq for eff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eq :: a -&gt; b -&gt;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has a real implementation co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ziness can be added to a strict language (although not as easily as you might thin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it’s not so bad only having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instead of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563840" y="6021360"/>
            <a:ext cx="6507000" cy="520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hy wear the hair shirt of lazi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favour of lazi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ziness is jolly conven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2060640"/>
            <a:ext cx="6624720" cy="3934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p_help item@(Item cur_loc cur_link _)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cur_length &gt; li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-- Beyond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sp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Just vis_link &lt;- lookupVisited vis cur_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if cur_length &gt;= linkLength vis_link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p wq 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mit vis item ++ sp wq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|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= emit vis item ++ sp </a:t>
            </a:r>
            <a:r>
              <a:rPr b="1" lang="en-GB" sz="1800" spc="-1" strike="noStrike">
                <a:solidFill>
                  <a:srgbClr val="00b200"/>
                </a:solidFill>
                <a:latin typeface="Courier New"/>
              </a:rPr>
              <a:t>wq'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vis’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b200"/>
                </a:solidFill>
                <a:latin typeface="Courier New"/>
              </a:rPr>
              <a:t>wq’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=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4149720"/>
            <a:ext cx="1512720" cy="693720"/>
          </a:xfrm>
          <a:prstGeom prst="wedgeRoundRectCallout">
            <a:avLst>
              <a:gd name="adj1" fmla="val 107481"/>
              <a:gd name="adj2" fmla="val 13231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two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877000"/>
            <a:ext cx="1513080" cy="693720"/>
          </a:xfrm>
          <a:prstGeom prst="wedgeRoundRectCallout">
            <a:avLst>
              <a:gd name="adj1" fmla="val 116837"/>
              <a:gd name="adj2" fmla="val -5523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on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primoridal so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62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CA, Sept 1987: initial meeting. A dozen lazy functional programmers, wanting to agree on a common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itable for teaching, research, and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ly-described syntax and seman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ly availab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body the apparent consensus of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 unnecessary d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d to...a succession of face-to-face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ril 1990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skell 1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ort relea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ditors: Hudak, Wadl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ator libra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values are jolly use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2004840"/>
            <a:ext cx="6838920" cy="1463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Parser a = String -&gt; (a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:: Parser Exp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= lit “let” &lt;+&gt; decls &lt;+&gt; lit “in” &lt;+&gt; 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exp &lt;+&gt; a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...et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1280" y="3543480"/>
            <a:ext cx="628596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is illegal in ML, because of the value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only be made legal by eta expa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that breaks the Parser abstrac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 is extremely grues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5229360"/>
            <a:ext cx="68389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xp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x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t “let” &lt;+&gt; decls &lt;+&gt; lit “in” &lt;+&gt; 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exp &lt;+&gt; a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||| ...etc...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)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57400" y="2060640"/>
            <a:ext cx="6438960" cy="3020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 big one...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ziness keeps you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n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 call-by-value language has given into the siren call of side effec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in Haske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yes”) + (print “no”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does not make sense.  Even worse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print “yes”, print “no”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effects (I/O, references, exceptions) are just not an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longed embarrass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Stream-based I/O, continuation I/O..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 DEALS WIH THE DEV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67640" y="4221000"/>
            <a:ext cx="1324080" cy="25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ic I/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7696080" cy="22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value of type (</a:t>
            </a:r>
            <a:r>
              <a:rPr b="1" lang="en-US" sz="3200" spc="-1" strike="noStrike">
                <a:solidFill>
                  <a:srgbClr val="00b200"/>
                </a:solidFill>
                <a:latin typeface="Courier New"/>
              </a:rPr>
              <a:t>IO 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is an “</a:t>
            </a:r>
            <a:r>
              <a:rPr b="1" lang="en-US" sz="3200" spc="-1" strike="noStrike">
                <a:solidFill>
                  <a:srgbClr val="00b200"/>
                </a:solidFill>
                <a:latin typeface="Tahoma"/>
              </a:rPr>
              <a:t>actio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” that, when performed, may do some input/output before delivering a result of type 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333440" y="4189320"/>
            <a:ext cx="6477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getChar :: IO Ch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utChar :: Char -&gt; IO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ing I/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3048120"/>
            <a:ext cx="792468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gram is a single I/O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ning the program performs the 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do I/O from pure co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clean separation of pure code from imperative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920240"/>
            <a:ext cx="420408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 :: IO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necting I/O oper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827720"/>
            <a:ext cx="83822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&gt;&gt;=)  :: IO a -&gt; (a -&gt; IO b) -&gt; I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:: a -&gt; IO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3400" y="2983680"/>
            <a:ext cx="6215760" cy="253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getChar  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a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getChar  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b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utChar b &gt;&gt;= 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\() 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r>
              <a:rPr b="1" lang="en-GB" sz="3200" spc="-1" strike="noStrike">
                <a:solidFill>
                  <a:srgbClr val="ff0000"/>
                </a:solidFill>
                <a:latin typeface="Courier New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77840" y="2076840"/>
            <a:ext cx="383832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etChar   &gt;&gt;= \a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etChar   &gt;&gt;= \b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char b &gt;&gt;= \()-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854720"/>
            <a:ext cx="3581640" cy="2288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do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 &lt;- get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 &lt;- get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char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2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22280" y="2420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=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o-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ctic sugar on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sy translation into (&gt;&gt;=), retu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liberately imperative “look and feel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484280"/>
            <a:ext cx="784836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s of type (IO t) are firs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 we can define our own “control structures”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924280"/>
            <a:ext cx="7620120" cy="22885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ever :: IO ()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ever a = do { a; forever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:: Int -&gt; IO ()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0 a = retur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1814400"/>
                <a:tab algn="l" pos="2666880"/>
                <a:tab algn="l" pos="3529080"/>
                <a:tab algn="l" pos="448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n a = do { a; repeatN (n-1) a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558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peatN 10 (putChar ‘x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sing the ide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614520" y="1528920"/>
            <a:ext cx="791352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monad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type constructo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ind :: M a -&gt; (a -&gt; M b) -&gt; M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 :: a -&gt; 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US some per-monad operations (e.g. getChar :: IO Ch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There are lots of useful 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monads, not only I/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484280"/>
            <a:ext cx="7986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ception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n a = Either String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ail :: String -&gt; Ex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que supp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q a = Int -&gt; (a, Int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 :: Uniq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sers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rser a = String -&gt; [(a,String)]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t :: Parser a -&gt; Parser a -&gt; Pars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36760" y="5661000"/>
            <a:ext cx="630396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ad combinators (e.g. sequence, fold, etc), and do-notation, work over all mon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341360"/>
            <a:ext cx="936720" cy="5327640"/>
          </a:xfrm>
          <a:prstGeom prst="downArrow">
            <a:avLst>
              <a:gd name="adj1" fmla="val 40657"/>
              <a:gd name="adj2" fmla="val 31624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547640" y="141300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23440" y="12682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pt 87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ick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547640" y="234936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4600" y="2133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 90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kell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1680" y="270828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92: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2 (SIGPLAN Notices) (164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2414520"/>
            <a:ext cx="32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g 91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Haskell 1.1 (153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393372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96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3.  Monadic I/O, separate librar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51008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 97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1.4 (213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522288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b 99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 (240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6165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1000" indent="-98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c 02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 revised (260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47640" y="630864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47640" y="537372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47640" y="472428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547640" y="414972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640" y="292428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547640" y="2637000"/>
            <a:ext cx="64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573960" y="5300640"/>
            <a:ext cx="1814400" cy="1343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62040" y="458784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type check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71680" y="1488960"/>
            <a:ext cx="8001000" cy="22284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cExpr :: Expr -&gt; Tc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cExpr (App fun a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do { fun_ty &lt;- tcExpr f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arg_ty &lt;- tcExpr 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res_ty &lt;- newTy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unify fun_ty (arg_ty --&gt; res_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 return res_ty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63640" y="3860640"/>
            <a:ext cx="66294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c monad hides all the plumb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ceptions and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substitution (un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 source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ufacturing fresh typ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2000" y="5300640"/>
            <a:ext cx="2678040" cy="711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bust to changes in plumb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O mona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1484280"/>
            <a:ext cx="784224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IO monad allows controlled introduction o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ther effect-ful language features (not just I/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t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Ref :: IO (IORef a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ad   :: IORef s a -&gt; IO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rite  :: IORef s a -&gt; a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urrency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k     :: IO a -&gt; IO ThreadI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ewMVar  :: IO (MVar a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akeMVar :: MVar a -&gt; IO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utMVar  :: MVar a -&gt; a -&gt; I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ve we achiev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268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bility to mix imperative and purely-functional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00000" y="2349360"/>
            <a:ext cx="5867640" cy="236232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71440" y="2516040"/>
            <a:ext cx="5334120" cy="2057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urely-functional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7640" y="1916280"/>
            <a:ext cx="2590920" cy="430560"/>
          </a:xfrm>
          <a:prstGeom prst="wedgeRoundRectCallout">
            <a:avLst>
              <a:gd name="adj1" fmla="val -42347"/>
              <a:gd name="adj2" fmla="val 199370"/>
              <a:gd name="adj3" fmla="val 16667"/>
            </a:avLst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ative “sk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have we achiev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00200"/>
            <a:ext cx="80010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without ruining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laws of pure functional programming remain unconditionally true, even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t x=e in ...x....x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....e....e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e have not achiev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600200"/>
            <a:ext cx="800100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erative programming is no easier than it alway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o { ...; x &lt;- f 1; y &lt;- f 2; 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?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o { ...; y &lt;- f 2; x &lt;- f 1; 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but there’s less of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960" indent="-4809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and actions are first-clas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challeng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484280"/>
            <a:ext cx="813096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problem: the IO monad has become Haskell’s sin-bin.  (Whenever we don’t understand something, we toss it in the IO mona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stering s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afePerformIO :: IO a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ngerous, indeed type-unsafe, but occasionally indispens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nted: finer-grain effect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 {read x, write y}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challenge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484280"/>
            <a:ext cx="81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would you pre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129760"/>
            <a:ext cx="288000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 { a &lt;- f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&lt;- g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a b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59280" y="2489760"/>
            <a:ext cx="2592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(f x) (g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614760"/>
            <a:ext cx="813096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commutative monad, it does not matter whether we d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f x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irst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g y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Commutativ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monad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re very common.  (Environment, unique supply, random number generation.)  For these, monads over-sequentia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nted: theory and notation for some cool com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ad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ads are a beautiful example of a theory-into-practice (more the thought pattern than actual theore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dden effects are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re-purch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pay nothing now, but it catches up with you in the 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forced purity is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ying up fro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painful on Day 1, but usually worth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e made one big mistak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biggest mist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8960"/>
            <a:ext cx="7696080" cy="305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the scary term “monad”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ther tha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m fuzzy thing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really matter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Lazines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Purity and mona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Type classes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Sexy ty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943280" y="1233360"/>
            <a:ext cx="53654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 flipH="1" flipV="1" rot="10800000">
            <a:off x="1835280" y="1125360"/>
            <a:ext cx="2736720" cy="3097440"/>
          </a:xfrm>
          <a:custGeom>
            <a:avLst/>
            <a:gdLst>
              <a:gd name="textAreaLeft" fmla="*/ 0 w 2736720"/>
              <a:gd name="textAreaRight" fmla="*/ 2736720 w 2736720"/>
              <a:gd name="textAreaTop" fmla="*/ 360 h 3097440"/>
              <a:gd name="textAreaBottom" fmla="*/ 3098160 h 309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03" stAng="10800000" swAng="5400000"/>
                <a:lnTo>
                  <a:pt x="14336" y="3357"/>
                </a:lnTo>
                <a:lnTo>
                  <a:pt x="14336" y="0"/>
                </a:lnTo>
                <a:lnTo>
                  <a:pt x="21600" y="6079"/>
                </a:lnTo>
                <a:lnTo>
                  <a:pt x="14336" y="12158"/>
                </a:lnTo>
                <a:lnTo>
                  <a:pt x="14336" y="8801"/>
                </a:lnTo>
                <a:lnTo>
                  <a:pt x="12427" y="8801"/>
                </a:lnTo>
                <a:arcTo wR="6983" hR="3359" stAng="16200000" swAng="-5400000"/>
                <a:lnTo>
                  <a:pt x="5444" y="21600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55280" y="3428640"/>
            <a:ext cx="3816360" cy="2376360"/>
          </a:xfrm>
          <a:prstGeom prst="leftArrow">
            <a:avLst>
              <a:gd name="adj1" fmla="val 50000"/>
              <a:gd name="adj2" fmla="val 40149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kel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119700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acros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for teaching,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4365720"/>
            <a:ext cx="38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skell +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, exc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table, undocumented, implementations va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LPJ conclu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rity is more important than, and quite independent of, lazi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next ML will be pure, with effects only via monads.  The next Haskell will be strict, but still p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ill unclear exactly how to add laziness to a strict language.  For example, do we want a type distinction between (say) a lazy Int and a strict I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8400" y="2711520"/>
            <a:ext cx="666540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71680" y="1844640"/>
            <a:ext cx="7169040" cy="4667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Eq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==) :: a -&gt; a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Eq Int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1 == i2 = eqInt i1 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(Eq a) =&gt; Eq [a]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[]     == []   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x:xs) == (y:ys) = (x == y) &amp;&amp; (xs == 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:: Eq a =&gt; a -&gt; [a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x []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x (y:y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x==y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4210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otherwise = member x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76360" y="1483920"/>
            <a:ext cx="3382920" cy="1557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lly, just a neat way to get systematic overloading of (==), read, sh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71680" y="1413000"/>
            <a:ext cx="8001000" cy="52776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 Eq a = MkEq (a-&gt;a-&gt;B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q (MkEq e) =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Int :: Eq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Int = MkEq eq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List :: Eq a -&gt; Eq 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List (MkEq e) = MkEq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re el []     []   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 (x:xs) (y:ys) = x `e` y &amp;&amp; xs `el`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::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Eq 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-&gt; a -&gt; [a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[]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(y:y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eq 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y 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82800"/>
                <a:tab algn="l" pos="394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| otherwise = member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x 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lementing type clas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588000" y="1622520"/>
            <a:ext cx="1871640" cy="889560"/>
          </a:xfrm>
          <a:prstGeom prst="wedgeRoundRectCallout">
            <a:avLst>
              <a:gd name="adj1" fmla="val -131421"/>
              <a:gd name="adj2" fmla="val -5311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ass witnessed by a “dictionary”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2028960"/>
            <a:ext cx="2305080" cy="889560"/>
          </a:xfrm>
          <a:prstGeom prst="wedgeRoundRectCallout">
            <a:avLst>
              <a:gd name="adj1" fmla="val -63893"/>
              <a:gd name="adj2" fmla="val 7738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ance declarations create 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720" y="4581360"/>
            <a:ext cx="1584360" cy="1415160"/>
          </a:xfrm>
          <a:prstGeom prst="wedgeRoundRectCallout">
            <a:avLst>
              <a:gd name="adj1" fmla="val -102791"/>
              <a:gd name="adj2" fmla="val 2069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verloaded functions take extra dictionary paramet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over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classes are the most unusual feature of Haskell’s typ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1187280" y="2781360"/>
            <a:ext cx="6624720" cy="3095640"/>
          </a:xfrm>
          <a:custGeom>
            <a:avLst/>
            <a:gdLst/>
            <a:ahLst/>
            <a:rect l="l" t="t" r="r" b="b"/>
            <a:pathLst>
              <a:path w="4173" h="1950">
                <a:moveTo>
                  <a:pt x="0" y="0"/>
                </a:moveTo>
                <a:lnTo>
                  <a:pt x="0" y="1950"/>
                </a:lnTo>
                <a:lnTo>
                  <a:pt x="4173" y="19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781360"/>
            <a:ext cx="6265800" cy="3024000"/>
          </a:xfrm>
          <a:custGeom>
            <a:avLst/>
            <a:gdLst/>
            <a:ahLst/>
            <a:rect l="l" t="t" r="r" b="b"/>
            <a:pathLst>
              <a:path w="3947" h="1905">
                <a:moveTo>
                  <a:pt x="0" y="1905"/>
                </a:moveTo>
                <a:lnTo>
                  <a:pt x="182" y="1860"/>
                </a:lnTo>
                <a:lnTo>
                  <a:pt x="273" y="90"/>
                </a:lnTo>
                <a:lnTo>
                  <a:pt x="908" y="90"/>
                </a:lnTo>
                <a:lnTo>
                  <a:pt x="1134" y="1814"/>
                </a:lnTo>
                <a:lnTo>
                  <a:pt x="2087" y="1633"/>
                </a:lnTo>
                <a:lnTo>
                  <a:pt x="2949" y="90"/>
                </a:lnTo>
                <a:lnTo>
                  <a:pt x="3947" y="0"/>
                </a:lnTo>
              </a:path>
            </a:pathLst>
          </a:custGeom>
          <a:noFill/>
          <a:ln w="381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4653000"/>
            <a:ext cx="2376360" cy="397080"/>
          </a:xfrm>
          <a:prstGeom prst="wedgeRoundRectCallout">
            <a:avLst>
              <a:gd name="adj1" fmla="val -4847"/>
              <a:gd name="adj2" fmla="val 211412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3228840"/>
            <a:ext cx="2376360" cy="397080"/>
          </a:xfrm>
          <a:prstGeom prst="wedgeRoundRectCallout">
            <a:avLst>
              <a:gd name="adj1" fmla="val 36699"/>
              <a:gd name="adj2" fmla="val -12074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ld enthusi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67480" y="5961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2000" y="5961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8840" y="596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3440" y="5962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7280" y="6381720"/>
            <a:ext cx="3349440" cy="397080"/>
          </a:xfrm>
          <a:prstGeom prst="wedgeRoundRectCallout">
            <a:avLst>
              <a:gd name="adj1" fmla="val -39060"/>
              <a:gd name="adj2" fmla="val -229527"/>
              <a:gd name="adj3" fmla="val 16667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ation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152360" cy="397080"/>
          </a:xfrm>
          <a:prstGeom prst="wedgeRoundRectCallout">
            <a:avLst>
              <a:gd name="adj1" fmla="val -29671"/>
              <a:gd name="adj2" fmla="val 21865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4414680"/>
            <a:ext cx="1152360" cy="989640"/>
          </a:xfrm>
          <a:prstGeom prst="wedgeRoundRectCallout">
            <a:avLst>
              <a:gd name="adj1" fmla="val -139222"/>
              <a:gd name="adj2" fmla="val -589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ck, hack, h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04000" y="2932200"/>
            <a:ext cx="1584360" cy="989640"/>
          </a:xfrm>
          <a:prstGeom prst="wedgeRoundRectCallout">
            <a:avLst>
              <a:gd name="adj1" fmla="val -82550"/>
              <a:gd name="adj2" fmla="val -4887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y, what’s the big de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are usefu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classes have proved extraordinarily convenient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363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ity, ordering, serialisation, numerical operations,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nd not just the built-in ones (e.g. pretty-printing, time-varying valu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3600" indent="-363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adic oper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4365720"/>
            <a:ext cx="6016680" cy="1618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onad m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:: a -&gt; 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gt;&gt;=)  :: m a -&gt; (a -&gt; m b) -&gt; m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   :: String -&gt; 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0920" y="5661000"/>
            <a:ext cx="4467600" cy="36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te the higher-kinded type variable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ckche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39560" y="3428640"/>
            <a:ext cx="632772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hci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ickCheck propRev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K: passed 100 test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hci&gt;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ickCheck propRevApp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K: passed 100 t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ickcheck (which is just a Haskell 98 libra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orks out how many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rates suitable test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un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934920" y="1341360"/>
            <a:ext cx="7274160" cy="19234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 :: [Int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 xs = reverse (reverse xs) ==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App :: [Int] -&gt; [Int]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pRevApp xs ys = reverse (xs++ys) =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verse ys ++ reverse 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ickche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934920" y="1341360"/>
            <a:ext cx="7274160" cy="43628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ickCheck :: Test a =&gt; a -&gt; IO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Test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:: a -&gt; Rand -&gt; B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rby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by :: Rand -&gt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(Arby a, Test b) =&gt; Test (a-&gt;b)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f r = test (f (arby r1))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ere (r1,r2) = split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stance Test Bool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 b r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tensib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ke OOP, one can add new data types “later”.  E.g. QuickCheck works for your new data types (provided you make them instances of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Arb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.but also not like O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3284280"/>
            <a:ext cx="76960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bit like OOP, except that method suite passed separately?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uble :: Num a =&gt; a -&gt; 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uble x = x+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: type classes implemen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ype-bas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patch, no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value-bas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p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563840" y="1268280"/>
            <a:ext cx="6016320" cy="1618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Num a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+)         :: a -&gt; a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gate      :: a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romInteger :: Integer -&gt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lections on the proc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dea of having a fixed standard (Haskell 98) in parallel with an evolving language, has worked really w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l semantics only for fragments (but see [Faxen2002]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-63180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mallish, rather pointy-headed user-base makes Haskell nimble.  Haskell has evolved rapidly and continues to do s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tto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void success at all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31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58920" y="2852280"/>
            <a:ext cx="73454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:: Num a =&gt; a -&gt;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x = 2*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ea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:: Num a -&gt; a -&gt; a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ouble d x = mul d (fromInteger d 2)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overloaded value is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returned by 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fromInteg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ot passed to it.  It is the dictionary (and type) that are passed as argument to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rom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563840" y="1268280"/>
            <a:ext cx="6016320" cy="1465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Num a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+)         :: a -&gt; 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gate      :: a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romInteger :: Integer -&gt;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19564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-based disp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 the links to intensional polymorphism are much closer than the links to O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ictionary is like a proxy for the (interesting aspects of) the type argument of a polymorphic f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:: forall a. a -&gt; 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t (x::t) = ...typecase t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:: forall a. C a =&gt; a -&gt; 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 x = ...(call method of C)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6805440" y="3159000"/>
            <a:ext cx="1797120" cy="989640"/>
          </a:xfrm>
          <a:prstGeom prst="wedgeRoundRectCallout">
            <a:avLst>
              <a:gd name="adj1" fmla="val -80902"/>
              <a:gd name="adj2" fmla="val 1741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tensional 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4508640"/>
            <a:ext cx="1796760" cy="397080"/>
          </a:xfrm>
          <a:prstGeom prst="wedgeRoundRectCallout">
            <a:avLst>
              <a:gd name="adj1" fmla="val -100157"/>
              <a:gd name="adj2" fmla="val 75087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39360" y="5950080"/>
            <a:ext cx="68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.f. Crary et al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 (ICFP98), Baars et al (ICFP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ol generalis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-parameter type cl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-kinded type variables (a.k.a. constructor class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verlapping inst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unctional dependencies (Jones ESOP’0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 classes as logic programs (Neubauer et al POPL’02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fied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ype classes are an example o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ualified typ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Jones thesis].  Main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s of form 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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Q =&gt;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alifiers Q are witnessed by run-time evi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nown exam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ype class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tuple of metho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mplicit paramet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value of implicit para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xtensible record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evidence = offset of field in rec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other unifying idea: Constraint Handling Rules (Stucky/Sulzmann ICFP’0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classes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3960" y="1484280"/>
            <a:ext cx="7696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uch more far-reaching idea than we first real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interesting general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nts adopted in Isabel, Clean, Mercury, Hal, E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4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n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1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nsion between desire for overlap and the open-world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1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nger of death b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596960" y="2711520"/>
            <a:ext cx="5700600" cy="1434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exy typ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xy 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3560" y="1412640"/>
            <a:ext cx="7696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askell has become a laboratory and playground for advanced type hack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recu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gher kinded type variabl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a = T a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(T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k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a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functions as constructor argument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= MkT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forall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[a] -&gt; [a]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lymorphic functions as arbitrary function arguments (higher ranked types)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 :: (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forall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[a]-&gt;[a]) -&gt;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istential types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ata T =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ists a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. Show a =&gt; MkT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sexy good?  Yes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ll typed programs don’t go wr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ss mundanely (but more allusively) sexy types let you think higher thoughts and still stay [almost] san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eply higher-order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n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ds and unfo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ads and monad transform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rows (now finding application in real-time reactive programm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ort-cut defore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otstrapped data structu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sex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mas-Milner is on a cus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infer most-general types without any type annotations at 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virtually any extension destroys this proper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dding type quite modest type annotations lets us go a LOT further (as we have already seen) without losing inference for most of the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ill missing from even the sexiest Haskell i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t the typ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mpredica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tination =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48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GB" sz="4800" spc="-1" strike="noStrike" baseline="-25000">
                <a:solidFill>
                  <a:srgbClr val="000000"/>
                </a:solidFill>
                <a:latin typeface="Comic Sans MS"/>
              </a:rPr>
              <a:t>&lt;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23960" y="2016000"/>
            <a:ext cx="7696080" cy="2941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a good design for user-level type annotation that exposes the power of F</a:t>
            </a:r>
            <a:r>
              <a:rPr b="0" lang="en-GB" sz="36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36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Comic Sans MS"/>
              </a:rPr>
              <a:t>&lt;: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but co-exists with type inferenc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226240" y="5276880"/>
            <a:ext cx="37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f. Didier &amp; Didier’s ML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ice of useful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braries increasingly importa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6: Separate libraries Re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1: Hierarchical library naming structure, increasingly pop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eign-function interface increasingly import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93 onwards: a variety of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1: successful effort to standardise a FFI across implemen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language large enough to be useful is dauntingly com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835280" y="1700280"/>
            <a:ext cx="5905440" cy="3097080"/>
          </a:xfrm>
          <a:custGeom>
            <a:avLst/>
            <a:gdLst/>
            <a:ahLst/>
            <a:rect l="l" t="t" r="r" b="b"/>
            <a:pathLst>
              <a:path w="3720" h="1951">
                <a:moveTo>
                  <a:pt x="0" y="0"/>
                </a:moveTo>
                <a:lnTo>
                  <a:pt x="0" y="1951"/>
                </a:lnTo>
                <a:lnTo>
                  <a:pt x="3720" y="19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29600" y="494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177840" y="299664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98000" y="4141800"/>
            <a:ext cx="19062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31800" y="457200"/>
            <a:ext cx="21924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L fun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64480" y="3841200"/>
            <a:ext cx="349452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+ sex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1835280" y="1700280"/>
            <a:ext cx="5905440" cy="3097080"/>
          </a:xfrm>
          <a:custGeom>
            <a:avLst/>
            <a:gdLst/>
            <a:ahLst/>
            <a:rect l="l" t="t" r="r" b="b"/>
            <a:pathLst>
              <a:path w="3720" h="1951">
                <a:moveTo>
                  <a:pt x="0" y="0"/>
                </a:moveTo>
                <a:lnTo>
                  <a:pt x="0" y="1951"/>
                </a:lnTo>
                <a:lnTo>
                  <a:pt x="3720" y="19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29600" y="4941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98000" y="4141800"/>
            <a:ext cx="19062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31800" y="385200"/>
            <a:ext cx="219240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ML fun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64480" y="3841200"/>
            <a:ext cx="3494520" cy="520200"/>
          </a:xfrm>
          <a:prstGeom prst="ellips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skell + sex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476280"/>
            <a:ext cx="5398920" cy="2289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or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igh power, but poor power/cos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modul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class modules probl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g step in language &amp; compil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 power seldom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82" idx="0"/>
            <a:endCxn id="379" idx="4"/>
          </p:cNvCxnSpPr>
          <p:nvPr/>
        </p:nvCxnSpPr>
        <p:spPr>
          <a:xfrm flipH="1" flipV="1">
            <a:off x="5010840" y="4341240"/>
            <a:ext cx="389880" cy="672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2627280" y="5013360"/>
            <a:ext cx="5545080" cy="1679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Ford Cortina with alloy whe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edium power, with good power/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ule parameterisation too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language support for module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80" idx="3"/>
            <a:endCxn id="378" idx="4"/>
          </p:cNvCxnSpPr>
          <p:nvPr/>
        </p:nvCxnSpPr>
        <p:spPr>
          <a:xfrm flipV="1">
            <a:off x="5867280" y="885960"/>
            <a:ext cx="1261440" cy="581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skell has many features that overlap with what ML-style modules off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pe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 class universals and existenti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es Haskell need functors anyway?  No: one seldom needs to instantiate the same functor at different arg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Haskell lacks a way to distribute “open” libraries, where the client provides some base modules; need module signatures and type-safe linking (e.g. PLT,Knit?).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t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Wanted: a design with better power, but good power/we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apsulating it 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650880" y="2971800"/>
            <a:ext cx="7842240" cy="45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unST :: (forall s. ST s a)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2720" y="3860640"/>
            <a:ext cx="2519280" cy="693720"/>
          </a:xfrm>
          <a:prstGeom prst="wedgeRoundRectCallout">
            <a:avLst>
              <a:gd name="adj1" fmla="val 79486"/>
              <a:gd name="adj2" fmla="val -116541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teful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32360" y="4149720"/>
            <a:ext cx="2519280" cy="397080"/>
          </a:xfrm>
          <a:prstGeom prst="wedgeRoundRectCallout">
            <a:avLst>
              <a:gd name="adj1" fmla="val 45953"/>
              <a:gd name="adj2" fmla="val -2431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r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42920" y="1268280"/>
            <a:ext cx="5689800" cy="13136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 ST s a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-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Ref :: a -&gt; ST s (STRef s a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ad   :: STRef s a -&gt; ST s a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rite  :: STRef s a -&gt; a -&gt; ST s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4869000"/>
            <a:ext cx="6912000" cy="7038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rt :: Ord a =&gt; [a] -&gt; [a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640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rt xs = runST (do { ..in-place sort..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apsulating it 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650880" y="1413000"/>
            <a:ext cx="7842240" cy="45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unST :: (forall s. ST s a) -&gt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00360" y="2276640"/>
            <a:ext cx="2519280" cy="397080"/>
          </a:xfrm>
          <a:prstGeom prst="wedgeRoundRectCallout">
            <a:avLst>
              <a:gd name="adj1" fmla="val 1032"/>
              <a:gd name="adj2" fmla="val -18450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er rank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3030480"/>
            <a:ext cx="2519640" cy="397080"/>
          </a:xfrm>
          <a:prstGeom prst="wedgeRoundRectCallout">
            <a:avLst>
              <a:gd name="adj1" fmla="val -65111"/>
              <a:gd name="adj2" fmla="val -35742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1280" y="2997360"/>
            <a:ext cx="2519280" cy="1286280"/>
          </a:xfrm>
          <a:prstGeom prst="wedgeRoundRectCallout">
            <a:avLst>
              <a:gd name="adj1" fmla="val 2106"/>
              <a:gd name="adj2" fmla="val -14213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curity of encapsulation depends on parame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4797360"/>
            <a:ext cx="3961080" cy="1582200"/>
          </a:xfrm>
          <a:prstGeom prst="wedgeRoundRectCallout">
            <a:avLst>
              <a:gd name="adj1" fmla="val -37944"/>
              <a:gd name="adj2" fmla="val -77476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rametricity depends on there being few polymorphic functio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. f:: a-&gt;a means f is the identity function or bot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02200" y="3716280"/>
            <a:ext cx="3962520" cy="1286280"/>
          </a:xfrm>
          <a:prstGeom prst="wedgeRoundRectCallout">
            <a:avLst>
              <a:gd name="adj1" fmla="val -53194"/>
              <a:gd name="adj2" fmla="val 6907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d that depends on type classes to make non-parametric operations explici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f :: Ord a =&gt; a -&gt;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5373720"/>
            <a:ext cx="2592360" cy="989640"/>
          </a:xfrm>
          <a:prstGeom prst="wedgeRoundRectCallout">
            <a:avLst>
              <a:gd name="adj1" fmla="val -86666"/>
              <a:gd name="adj2" fmla="val -18402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t also depends on purity (no side eff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Haskell committ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116000" y="1460520"/>
            <a:ext cx="316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v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nnart August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ve B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an Bou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arren Bur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n Fairbai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seph Fa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dy Gor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ia Guz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vin Hammo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alf H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ul Hudak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Hughes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80520" y="1460520"/>
            <a:ext cx="349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omas Joh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rk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ck Kiebu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Launchb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rik Meij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shiyur Nik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hn Pet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mon Peyton Jones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ke Re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astair R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lin Runci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hilip Wadler [edi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avid 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nathan Yo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77080" y="2575080"/>
            <a:ext cx="4389840" cy="1708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yntax is not import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rsing is the easy bit of a compil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696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 is not import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yntax is the user interface of a 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sing is the easy bit of a compi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he parser is often the trickiest bit of a compi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1268280"/>
            <a:ext cx="5113440" cy="936720"/>
            <a:chOff x="1042920" y="1268280"/>
            <a:chExt cx="5113440" cy="936720"/>
          </a:xfrm>
        </p:grpSpPr>
        <p:sp>
          <p:nvSpPr>
            <p:cNvPr id="193" name=""/>
            <p:cNvSpPr/>
            <p:nvPr/>
          </p:nvSpPr>
          <p:spPr>
            <a:xfrm>
              <a:off x="1042920" y="1341360"/>
              <a:ext cx="5113440" cy="71928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116000" y="1268280"/>
              <a:ext cx="4968720" cy="93672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16000" y="3644640"/>
            <a:ext cx="5113440" cy="936360"/>
            <a:chOff x="1116000" y="3644640"/>
            <a:chExt cx="5113440" cy="936360"/>
          </a:xfrm>
        </p:grpSpPr>
        <p:sp>
          <p:nvSpPr>
            <p:cNvPr id="196" name=""/>
            <p:cNvSpPr/>
            <p:nvPr/>
          </p:nvSpPr>
          <p:spPr>
            <a:xfrm>
              <a:off x="1116000" y="3717720"/>
              <a:ext cx="5113440" cy="71892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189080" y="3644640"/>
              <a:ext cx="4968720" cy="93636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9:26Z</dcterms:created>
  <dc:creator>Peyton Jones</dc:creator>
  <dc:description/>
  <dc:language>en-US</dc:language>
  <cp:lastModifiedBy>Peyton Jones</cp:lastModifiedBy>
  <dcterms:modified xsi:type="dcterms:W3CDTF">2003-06-04T23:04:40Z</dcterms:modified>
  <cp:revision>84</cp:revision>
  <dc:subject/>
  <dc:title>Slide 1</dc:title>
</cp:coreProperties>
</file>