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5165-EF43-4DFA-A6A1-DCEC8C24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895560"/>
            <a:ext cx="7696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4D85-BDA1-437B-B786-0DDE803F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29600" y="141300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89556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29600" y="389556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1A12-6533-4BBC-BA3A-544C4FA9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247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7880" y="1413000"/>
            <a:ext cx="247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89960" y="1413000"/>
            <a:ext cx="247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895560"/>
            <a:ext cx="247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7880" y="3895560"/>
            <a:ext cx="247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89960" y="3895560"/>
            <a:ext cx="247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2472-18F8-467F-A9ED-23244852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2A29-A4CC-4AD2-B92E-F8D93D41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3150-D6F9-45EC-A3CE-45180A49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357F-D37E-48FC-8526-228F55F7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3755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29600" y="1413000"/>
            <a:ext cx="3755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9FA0-A985-4818-A942-8B38EED8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D4B5-4239-4E79-8232-F0052198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85440" y="260280"/>
            <a:ext cx="6870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80DD-F419-4697-AF21-56B970F2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413000"/>
            <a:ext cx="3755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389556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312C-3112-447A-9F3E-64357A06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D48B-1F94-48D7-9FFD-FA38BF21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3755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41300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29600" y="389556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AE37-5923-4F2D-B321-E2F7727D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29600" y="141300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3895560"/>
            <a:ext cx="7696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1FFE-0BB7-4111-BDF1-E458DD4E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85800" y="3895560"/>
            <a:ext cx="7696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451B-3169-4A16-8925-388E1CFC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41300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89556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29600" y="389556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19EF-FFC8-4A66-96A8-8BFB97B9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247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87880" y="1413000"/>
            <a:ext cx="247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889960" y="1413000"/>
            <a:ext cx="247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85800" y="3895560"/>
            <a:ext cx="247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87880" y="3895560"/>
            <a:ext cx="247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5889960" y="3895560"/>
            <a:ext cx="247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C7D2-CDC3-4150-BBB2-C5AAE7C1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4CD3-70EB-4464-AC5C-D6CC44EF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3755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9600" y="1413000"/>
            <a:ext cx="3755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056-E025-40DE-8854-F5979719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1CF9-96DD-40D3-AF41-70602826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440" y="260280"/>
            <a:ext cx="6870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EAC9-3FA6-4D27-B5EB-4E3EC3D8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9600" y="1413000"/>
            <a:ext cx="3755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9556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4AE2-4332-4C93-B5FA-0CB82661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3755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9600" y="141300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29600" y="389556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17EE-D8C5-4C92-89AE-8CAD2742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9600" y="141300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95560"/>
            <a:ext cx="7696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7505-E8A8-4CCE-9BEC-7261B364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CE5D-EE8A-49A4-A176-577111335670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9280" y="6021360"/>
            <a:ext cx="1008000" cy="576360"/>
            <a:chOff x="179280" y="6021360"/>
            <a:chExt cx="1008000" cy="576360"/>
          </a:xfrm>
        </p:grpSpPr>
        <p:sp>
          <p:nvSpPr>
            <p:cNvPr id="6" name=""/>
            <p:cNvSpPr/>
            <p:nvPr/>
          </p:nvSpPr>
          <p:spPr>
            <a:xfrm>
              <a:off x="196200" y="6032160"/>
              <a:ext cx="976320" cy="47628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91160" y="6088680"/>
              <a:ext cx="63360" cy="9432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92600" y="6229800"/>
              <a:ext cx="710280" cy="3009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90520" y="6254640"/>
              <a:ext cx="470520" cy="2743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80" y="6051960"/>
              <a:ext cx="120960" cy="8892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49520" y="6515640"/>
              <a:ext cx="68040" cy="820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6760" y="6107040"/>
              <a:ext cx="172800" cy="2811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3640" y="6094800"/>
              <a:ext cx="326160" cy="12744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40" y="6170400"/>
              <a:ext cx="139680" cy="489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179280" y="6021360"/>
              <a:ext cx="1008000" cy="572400"/>
              <a:chOff x="179280" y="6021360"/>
              <a:chExt cx="1008000" cy="572400"/>
            </a:xfrm>
          </p:grpSpPr>
          <p:grpSp>
            <p:nvGrpSpPr>
              <p:cNvPr id="16" name=""/>
              <p:cNvGrpSpPr/>
              <p:nvPr/>
            </p:nvGrpSpPr>
            <p:grpSpPr>
              <a:xfrm>
                <a:off x="622080" y="6073920"/>
                <a:ext cx="491400" cy="519840"/>
                <a:chOff x="622080" y="6073920"/>
                <a:chExt cx="491400" cy="51984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622080" y="6092280"/>
                  <a:ext cx="140760" cy="6372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44840" y="6496200"/>
                  <a:ext cx="102960" cy="975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074960" y="6073920"/>
                  <a:ext cx="38520" cy="856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242640" y="6198840"/>
                <a:ext cx="533520" cy="1836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407880" y="6311880"/>
                <a:ext cx="218520" cy="108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681120" y="6160680"/>
                <a:ext cx="95760" cy="17460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" name=""/>
              <p:cNvGrpSpPr/>
              <p:nvPr/>
            </p:nvGrpSpPr>
            <p:grpSpPr>
              <a:xfrm>
                <a:off x="179280" y="6021360"/>
                <a:ext cx="1008000" cy="497880"/>
                <a:chOff x="179280" y="6021360"/>
                <a:chExt cx="1008000" cy="49788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774720" y="6431040"/>
                  <a:ext cx="66960" cy="6372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179280" y="6195960"/>
                  <a:ext cx="754920" cy="32328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269640" y="6226920"/>
                  <a:ext cx="71640" cy="1224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577440" y="6021360"/>
                  <a:ext cx="288720" cy="43596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93000" y="6138720"/>
                  <a:ext cx="85680" cy="18504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468720" y="6123960"/>
                  <a:ext cx="174600" cy="9900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65000" y="6056640"/>
                  <a:ext cx="422280" cy="15552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817560" y="6106320"/>
                  <a:ext cx="219600" cy="630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" name=""/>
          <p:cNvGrpSpPr/>
          <p:nvPr/>
        </p:nvGrpSpPr>
        <p:grpSpPr>
          <a:xfrm>
            <a:off x="7697160" y="32400"/>
            <a:ext cx="1783080" cy="1615320"/>
            <a:chOff x="7697160" y="32400"/>
            <a:chExt cx="1783080" cy="1615320"/>
          </a:xfrm>
        </p:grpSpPr>
        <p:sp>
          <p:nvSpPr>
            <p:cNvPr id="36" name=""/>
            <p:cNvSpPr/>
            <p:nvPr/>
          </p:nvSpPr>
          <p:spPr>
            <a:xfrm rot="18427200">
              <a:off x="8157600" y="59400"/>
              <a:ext cx="795960" cy="1540800"/>
            </a:xfrm>
            <a:custGeom>
              <a:avLst/>
              <a:gdLst/>
              <a:ahLst/>
              <a:rect l="l" t="t" r="r" b="b"/>
              <a:pathLst>
                <a:path w="2903" h="3686">
                  <a:moveTo>
                    <a:pt x="2903" y="433"/>
                  </a:moveTo>
                  <a:lnTo>
                    <a:pt x="2565" y="80"/>
                  </a:lnTo>
                  <a:lnTo>
                    <a:pt x="2241" y="0"/>
                  </a:lnTo>
                  <a:lnTo>
                    <a:pt x="110" y="2811"/>
                  </a:lnTo>
                  <a:lnTo>
                    <a:pt x="110" y="3228"/>
                  </a:lnTo>
                  <a:lnTo>
                    <a:pt x="0" y="3631"/>
                  </a:lnTo>
                  <a:lnTo>
                    <a:pt x="72" y="3686"/>
                  </a:lnTo>
                  <a:lnTo>
                    <a:pt x="441" y="3355"/>
                  </a:lnTo>
                  <a:lnTo>
                    <a:pt x="740" y="3228"/>
                  </a:lnTo>
                  <a:lnTo>
                    <a:pt x="2903" y="433"/>
                  </a:lnTo>
                  <a:lnTo>
                    <a:pt x="2903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427200">
              <a:off x="8222400" y="86400"/>
              <a:ext cx="798120" cy="1550160"/>
            </a:xfrm>
            <a:custGeom>
              <a:avLst/>
              <a:gdLst/>
              <a:ahLst/>
              <a:rect l="l" t="t" r="r" b="b"/>
              <a:pathLst>
                <a:path w="2911" h="3703">
                  <a:moveTo>
                    <a:pt x="2293" y="0"/>
                  </a:moveTo>
                  <a:lnTo>
                    <a:pt x="130" y="2835"/>
                  </a:lnTo>
                  <a:lnTo>
                    <a:pt x="131" y="3201"/>
                  </a:lnTo>
                  <a:lnTo>
                    <a:pt x="0" y="3633"/>
                  </a:lnTo>
                  <a:lnTo>
                    <a:pt x="50" y="3703"/>
                  </a:lnTo>
                  <a:lnTo>
                    <a:pt x="422" y="3352"/>
                  </a:lnTo>
                  <a:lnTo>
                    <a:pt x="763" y="3220"/>
                  </a:lnTo>
                  <a:lnTo>
                    <a:pt x="2911" y="428"/>
                  </a:lnTo>
                  <a:lnTo>
                    <a:pt x="2589" y="96"/>
                  </a:lnTo>
                  <a:lnTo>
                    <a:pt x="2293" y="0"/>
                  </a:lnTo>
                  <a:lnTo>
                    <a:pt x="2293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427200">
              <a:off x="8192880" y="216360"/>
              <a:ext cx="702720" cy="1161360"/>
            </a:xfrm>
            <a:custGeom>
              <a:avLst/>
              <a:gdLst/>
              <a:ahLst/>
              <a:rect l="l" t="t" r="r" b="b"/>
              <a:pathLst>
                <a:path w="2561" h="2777">
                  <a:moveTo>
                    <a:pt x="0" y="2485"/>
                  </a:moveTo>
                  <a:lnTo>
                    <a:pt x="432" y="2553"/>
                  </a:lnTo>
                  <a:lnTo>
                    <a:pt x="736" y="2777"/>
                  </a:lnTo>
                  <a:lnTo>
                    <a:pt x="2561" y="399"/>
                  </a:lnTo>
                  <a:lnTo>
                    <a:pt x="2118" y="82"/>
                  </a:lnTo>
                  <a:lnTo>
                    <a:pt x="1898" y="0"/>
                  </a:lnTo>
                  <a:lnTo>
                    <a:pt x="0" y="2485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" name=""/>
            <p:cNvGrpSpPr/>
            <p:nvPr/>
          </p:nvGrpSpPr>
          <p:grpSpPr>
            <a:xfrm>
              <a:off x="7697160" y="32400"/>
              <a:ext cx="1754640" cy="1608840"/>
              <a:chOff x="7697160" y="32400"/>
              <a:chExt cx="1754640" cy="1608840"/>
            </a:xfrm>
          </p:grpSpPr>
          <p:grpSp>
            <p:nvGrpSpPr>
              <p:cNvPr id="40" name=""/>
              <p:cNvGrpSpPr/>
              <p:nvPr/>
            </p:nvGrpSpPr>
            <p:grpSpPr>
              <a:xfrm>
                <a:off x="7697160" y="32400"/>
                <a:ext cx="1754640" cy="1608840"/>
                <a:chOff x="7697160" y="32400"/>
                <a:chExt cx="1754640" cy="1608840"/>
              </a:xfrm>
            </p:grpSpPr>
            <p:sp>
              <p:nvSpPr>
                <p:cNvPr id="41" name=""/>
                <p:cNvSpPr/>
                <p:nvPr/>
              </p:nvSpPr>
              <p:spPr>
                <a:xfrm rot="18427200">
                  <a:off x="8750160" y="1295280"/>
                  <a:ext cx="67320" cy="337680"/>
                </a:xfrm>
                <a:custGeom>
                  <a:avLst/>
                  <a:gdLst/>
                  <a:ahLst/>
                  <a:rect l="l" t="t" r="r" b="b"/>
                  <a:pathLst>
                    <a:path w="245" h="806">
                      <a:moveTo>
                        <a:pt x="123" y="9"/>
                      </a:moveTo>
                      <a:lnTo>
                        <a:pt x="131" y="342"/>
                      </a:lnTo>
                      <a:lnTo>
                        <a:pt x="0" y="806"/>
                      </a:lnTo>
                      <a:lnTo>
                        <a:pt x="79" y="789"/>
                      </a:lnTo>
                      <a:lnTo>
                        <a:pt x="218" y="376"/>
                      </a:lnTo>
                      <a:lnTo>
                        <a:pt x="245" y="0"/>
                      </a:lnTo>
                      <a:lnTo>
                        <a:pt x="123" y="9"/>
                      </a:lnTo>
                      <a:lnTo>
                        <a:pt x="123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" name=""/>
                <p:cNvGrpSpPr/>
                <p:nvPr/>
              </p:nvGrpSpPr>
              <p:grpSpPr>
                <a:xfrm>
                  <a:off x="7697160" y="32400"/>
                  <a:ext cx="1754640" cy="1608840"/>
                  <a:chOff x="7697160" y="32400"/>
                  <a:chExt cx="1754640" cy="16088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rot="18427200">
                    <a:off x="8210160" y="198360"/>
                    <a:ext cx="16632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604" h="349">
                        <a:moveTo>
                          <a:pt x="0" y="0"/>
                        </a:moveTo>
                        <a:lnTo>
                          <a:pt x="298" y="184"/>
                        </a:lnTo>
                        <a:lnTo>
                          <a:pt x="500" y="349"/>
                        </a:lnTo>
                        <a:lnTo>
                          <a:pt x="604" y="140"/>
                        </a:lnTo>
                        <a:lnTo>
                          <a:pt x="359" y="9"/>
                        </a:lnTo>
                        <a:lnTo>
                          <a:pt x="464" y="184"/>
                        </a:lnTo>
                        <a:lnTo>
                          <a:pt x="131" y="17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rot="18427200">
                    <a:off x="8311320" y="468000"/>
                    <a:ext cx="292680" cy="51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4" h="1230">
                        <a:moveTo>
                          <a:pt x="741" y="129"/>
                        </a:moveTo>
                        <a:lnTo>
                          <a:pt x="485" y="352"/>
                        </a:lnTo>
                        <a:lnTo>
                          <a:pt x="163" y="762"/>
                        </a:lnTo>
                        <a:lnTo>
                          <a:pt x="0" y="1101"/>
                        </a:lnTo>
                        <a:lnTo>
                          <a:pt x="59" y="1230"/>
                        </a:lnTo>
                        <a:lnTo>
                          <a:pt x="262" y="1201"/>
                        </a:lnTo>
                        <a:lnTo>
                          <a:pt x="578" y="914"/>
                        </a:lnTo>
                        <a:lnTo>
                          <a:pt x="876" y="534"/>
                        </a:lnTo>
                        <a:lnTo>
                          <a:pt x="1034" y="270"/>
                        </a:lnTo>
                        <a:lnTo>
                          <a:pt x="1064" y="84"/>
                        </a:lnTo>
                        <a:lnTo>
                          <a:pt x="977" y="0"/>
                        </a:lnTo>
                        <a:lnTo>
                          <a:pt x="836" y="65"/>
                        </a:lnTo>
                        <a:lnTo>
                          <a:pt x="969" y="107"/>
                        </a:lnTo>
                        <a:lnTo>
                          <a:pt x="876" y="352"/>
                        </a:lnTo>
                        <a:lnTo>
                          <a:pt x="690" y="656"/>
                        </a:lnTo>
                        <a:lnTo>
                          <a:pt x="350" y="1008"/>
                        </a:lnTo>
                        <a:lnTo>
                          <a:pt x="116" y="1114"/>
                        </a:lnTo>
                        <a:lnTo>
                          <a:pt x="135" y="943"/>
                        </a:lnTo>
                        <a:lnTo>
                          <a:pt x="437" y="504"/>
                        </a:lnTo>
                        <a:lnTo>
                          <a:pt x="831" y="118"/>
                        </a:lnTo>
                        <a:lnTo>
                          <a:pt x="741" y="129"/>
                        </a:lnTo>
                        <a:lnTo>
                          <a:pt x="741" y="1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 rot="18427200">
                    <a:off x="8099280" y="285480"/>
                    <a:ext cx="549000" cy="10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2" h="2521">
                        <a:moveTo>
                          <a:pt x="1941" y="0"/>
                        </a:moveTo>
                        <a:lnTo>
                          <a:pt x="0" y="2521"/>
                        </a:lnTo>
                        <a:lnTo>
                          <a:pt x="192" y="2450"/>
                        </a:lnTo>
                        <a:lnTo>
                          <a:pt x="2002" y="61"/>
                        </a:lnTo>
                        <a:lnTo>
                          <a:pt x="1941" y="0"/>
                        </a:lnTo>
                        <a:lnTo>
                          <a:pt x="194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 rot="18427200">
                    <a:off x="8162280" y="48240"/>
                    <a:ext cx="824400" cy="157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07" h="3771">
                        <a:moveTo>
                          <a:pt x="95" y="2844"/>
                        </a:moveTo>
                        <a:lnTo>
                          <a:pt x="394" y="2834"/>
                        </a:lnTo>
                        <a:lnTo>
                          <a:pt x="821" y="3009"/>
                        </a:lnTo>
                        <a:lnTo>
                          <a:pt x="681" y="2817"/>
                        </a:lnTo>
                        <a:lnTo>
                          <a:pt x="367" y="2703"/>
                        </a:lnTo>
                        <a:lnTo>
                          <a:pt x="637" y="2720"/>
                        </a:lnTo>
                        <a:lnTo>
                          <a:pt x="979" y="2870"/>
                        </a:lnTo>
                        <a:lnTo>
                          <a:pt x="2859" y="420"/>
                        </a:lnTo>
                        <a:lnTo>
                          <a:pt x="2578" y="148"/>
                        </a:lnTo>
                        <a:lnTo>
                          <a:pt x="2308" y="0"/>
                        </a:lnTo>
                        <a:lnTo>
                          <a:pt x="2692" y="78"/>
                        </a:lnTo>
                        <a:lnTo>
                          <a:pt x="3007" y="428"/>
                        </a:lnTo>
                        <a:lnTo>
                          <a:pt x="831" y="3273"/>
                        </a:lnTo>
                        <a:lnTo>
                          <a:pt x="481" y="3412"/>
                        </a:lnTo>
                        <a:lnTo>
                          <a:pt x="105" y="3771"/>
                        </a:lnTo>
                        <a:lnTo>
                          <a:pt x="0" y="3667"/>
                        </a:lnTo>
                        <a:lnTo>
                          <a:pt x="131" y="3631"/>
                        </a:lnTo>
                        <a:lnTo>
                          <a:pt x="376" y="3385"/>
                        </a:lnTo>
                        <a:lnTo>
                          <a:pt x="165" y="3273"/>
                        </a:lnTo>
                        <a:lnTo>
                          <a:pt x="165" y="3176"/>
                        </a:lnTo>
                        <a:lnTo>
                          <a:pt x="411" y="3298"/>
                        </a:lnTo>
                        <a:lnTo>
                          <a:pt x="411" y="3186"/>
                        </a:lnTo>
                        <a:lnTo>
                          <a:pt x="603" y="3220"/>
                        </a:lnTo>
                        <a:lnTo>
                          <a:pt x="428" y="3079"/>
                        </a:lnTo>
                        <a:lnTo>
                          <a:pt x="629" y="3062"/>
                        </a:lnTo>
                        <a:lnTo>
                          <a:pt x="95" y="2844"/>
                        </a:lnTo>
                        <a:lnTo>
                          <a:pt x="95" y="28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rot="18427200">
                    <a:off x="8599680" y="1096560"/>
                    <a:ext cx="1836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673" h="342">
                        <a:moveTo>
                          <a:pt x="0" y="80"/>
                        </a:moveTo>
                        <a:lnTo>
                          <a:pt x="255" y="106"/>
                        </a:lnTo>
                        <a:lnTo>
                          <a:pt x="639" y="342"/>
                        </a:lnTo>
                        <a:lnTo>
                          <a:pt x="673" y="289"/>
                        </a:lnTo>
                        <a:lnTo>
                          <a:pt x="447" y="114"/>
                        </a:lnTo>
                        <a:lnTo>
                          <a:pt x="26" y="0"/>
                        </a:lnTo>
                        <a:lnTo>
                          <a:pt x="0" y="80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 rot="18427200">
                    <a:off x="8548560" y="996120"/>
                    <a:ext cx="196920" cy="168840"/>
                  </a:xfrm>
                  <a:custGeom>
                    <a:avLst/>
                    <a:gdLst/>
                    <a:ahLst/>
                    <a:rect l="l" t="t" r="r" b="b"/>
                    <a:pathLst>
                      <a:path w="716" h="403">
                        <a:moveTo>
                          <a:pt x="0" y="78"/>
                        </a:moveTo>
                        <a:lnTo>
                          <a:pt x="340" y="148"/>
                        </a:lnTo>
                        <a:lnTo>
                          <a:pt x="638" y="403"/>
                        </a:lnTo>
                        <a:lnTo>
                          <a:pt x="716" y="296"/>
                        </a:lnTo>
                        <a:lnTo>
                          <a:pt x="420" y="114"/>
                        </a:lnTo>
                        <a:lnTo>
                          <a:pt x="70" y="0"/>
                        </a:lnTo>
                        <a:lnTo>
                          <a:pt x="0" y="78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 rot="18427200">
                    <a:off x="8233560" y="348840"/>
                    <a:ext cx="1965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717" h="411">
                        <a:moveTo>
                          <a:pt x="0" y="78"/>
                        </a:moveTo>
                        <a:lnTo>
                          <a:pt x="316" y="139"/>
                        </a:lnTo>
                        <a:lnTo>
                          <a:pt x="649" y="411"/>
                        </a:lnTo>
                        <a:lnTo>
                          <a:pt x="717" y="314"/>
                        </a:lnTo>
                        <a:lnTo>
                          <a:pt x="394" y="87"/>
                        </a:lnTo>
                        <a:lnTo>
                          <a:pt x="54" y="0"/>
                        </a:lnTo>
                        <a:lnTo>
                          <a:pt x="0" y="78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rot="18427200">
                    <a:off x="8190360" y="274680"/>
                    <a:ext cx="19440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709" h="386">
                        <a:moveTo>
                          <a:pt x="0" y="88"/>
                        </a:moveTo>
                        <a:lnTo>
                          <a:pt x="272" y="131"/>
                        </a:lnTo>
                        <a:lnTo>
                          <a:pt x="665" y="386"/>
                        </a:lnTo>
                        <a:lnTo>
                          <a:pt x="709" y="308"/>
                        </a:lnTo>
                        <a:lnTo>
                          <a:pt x="306" y="53"/>
                        </a:lnTo>
                        <a:lnTo>
                          <a:pt x="43" y="0"/>
                        </a:lnTo>
                        <a:lnTo>
                          <a:pt x="0" y="88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" name=""/>
              <p:cNvSpPr/>
              <p:nvPr/>
            </p:nvSpPr>
            <p:spPr>
              <a:xfrm>
                <a:off x="8091000" y="218160"/>
                <a:ext cx="49320" cy="10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"/>
          <p:cNvSpPr/>
          <p:nvPr/>
        </p:nvSpPr>
        <p:spPr>
          <a:xfrm>
            <a:off x="539640" y="1125360"/>
            <a:ext cx="7777440" cy="0"/>
          </a:xfrm>
          <a:prstGeom prst="line">
            <a:avLst/>
          </a:prstGeom>
          <a:ln w="381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836640"/>
            <a:ext cx="0" cy="288720"/>
          </a:xfrm>
          <a:prstGeom prst="line">
            <a:avLst/>
          </a:prstGeom>
          <a:ln w="381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FF3E-2381-49D1-AAD1-19722C3CCECA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6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00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6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10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280" y="1628280"/>
            <a:ext cx="727236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Wearing the hair shirt</a:t>
            </a:r>
            <a:br>
              <a:rPr sz="4800"/>
            </a:b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 retrospective on Haskell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on Peyton Jo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crosoft Research, Cambrid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od ideas from other langua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43909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 comprehen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1332000" y="3141720"/>
            <a:ext cx="5256000" cy="703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000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head :: [a] -&gt;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7000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head (x:xs)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32000" y="1916280"/>
            <a:ext cx="56880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000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[(x,y) | x &lt;- xs, y &lt;- ys, x+y &lt; 1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1280" y="256536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parate type sign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53737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Y infix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5640" y="6093000"/>
            <a:ext cx="237636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000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`map` x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64000" y="436572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tional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80000" y="4941720"/>
            <a:ext cx="2376720" cy="1008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000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et x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7000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7000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 x+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37080" y="6165720"/>
            <a:ext cx="511164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000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et { x = 3; y = 4} in x+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" y="4724280"/>
            <a:ext cx="309564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000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True true =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4149720"/>
            <a:ext cx="51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pper case constru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Fat vs thi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530280" y="1389240"/>
            <a:ext cx="3576240" cy="29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Expression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mb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1280" y="1389240"/>
            <a:ext cx="5041800" cy="29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Declaration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nction arguments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ttern-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41320" y="4581360"/>
            <a:ext cx="746136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LPJ’s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yntactic redundancy is a big w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ony Hoare’s comment “I fear that Haskell is doomed to succe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eclaration style”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ine a function as a series of independent equ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1258920" y="2778120"/>
            <a:ext cx="4681440" cy="703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ap f []     =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ap f (x:xs) = f x : map f x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58920" y="3933720"/>
            <a:ext cx="4573440" cy="1008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000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n x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x&gt;0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7000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x==0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7000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x&lt;0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Expression style”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ine a function as an expres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1403280" y="2413080"/>
            <a:ext cx="6337440" cy="1008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ap = \f xs -&gt; case x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[]     -&gt;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x:xs) -&gt; map f x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03280" y="3789360"/>
            <a:ext cx="5832720" cy="1008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7640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n = \x -&gt; if x&gt;0 the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7640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x==0 then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7640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xample (ICFP02 prog comp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2413080" y="2095560"/>
            <a:ext cx="5975280" cy="4474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p_help item@(Item cur_loc cur_link _) wq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| cur_length &gt; limi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 Beyond li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= sp wq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| Just vis_link &lt;- lookupVisited vis cur_l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 Already visited; update the visi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 map if cur_link is be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cur_length &gt;= linkLength vis_link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 Current link is no be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p wq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 Current link is be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mit vis item ++ sp wq vis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| otherwise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 Not visited y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= emit vis item ++ sp wq' vis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is’ =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q   =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4360" y="1994040"/>
            <a:ext cx="1296720" cy="397080"/>
          </a:xfrm>
          <a:prstGeom prst="wedgeRoundRectCallout">
            <a:avLst>
              <a:gd name="adj1" fmla="val 107643"/>
              <a:gd name="adj2" fmla="val 80703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u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1080" y="2481120"/>
            <a:ext cx="1296720" cy="693720"/>
          </a:xfrm>
          <a:prstGeom prst="wedgeRoundRectCallout">
            <a:avLst>
              <a:gd name="adj1" fmla="val 131986"/>
              <a:gd name="adj2" fmla="val 19138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ttern gu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61080" y="1197000"/>
            <a:ext cx="1297080" cy="693720"/>
          </a:xfrm>
          <a:prstGeom prst="wedgeRoundRectCallout">
            <a:avLst>
              <a:gd name="adj1" fmla="val -207879"/>
              <a:gd name="adj2" fmla="val 78319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ttern 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8000" y="3716280"/>
            <a:ext cx="1512720" cy="693720"/>
          </a:xfrm>
          <a:prstGeom prst="wedgeRoundRectCallout">
            <a:avLst>
              <a:gd name="adj1" fmla="val 131416"/>
              <a:gd name="adj2" fmla="val -51814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di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9280" y="5146560"/>
            <a:ext cx="1513080" cy="693720"/>
          </a:xfrm>
          <a:prstGeom prst="wedgeRoundRectCallout">
            <a:avLst>
              <a:gd name="adj1" fmla="val 107393"/>
              <a:gd name="adj2" fmla="val 63537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ere cl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87280" y="2284560"/>
            <a:ext cx="6767640" cy="2287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at is important or interesting about Haskel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 much for syntax.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at really matters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03dff"/>
                </a:solidFill>
                <a:latin typeface="Comic Sans MS"/>
              </a:rPr>
              <a:t>Laziness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03dff"/>
                </a:solidFill>
                <a:latin typeface="Comic Sans MS"/>
              </a:rPr>
              <a:t>Type classes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03dff"/>
                </a:solidFill>
                <a:latin typeface="Comic Sans MS"/>
              </a:rPr>
              <a:t>Sexy types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zi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hn Hughes’s famous paper “Why functional programming matters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ular programming needs powerful gl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zy evaluation enables new forms of modularity; in particular, separating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gener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ele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n-strict semantics means that unrestricted beta substitution is OK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.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ziness makes it much, much harder to reason about performance, especially space.  Tricky uses of seq for effec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eq :: a -&gt; b -&gt;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ziness has a real implementation co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ziness can be added to a strict language (although not as easily as you might think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it’s not so bad only having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 instead of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1563840" y="6021360"/>
            <a:ext cx="6507000" cy="5205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 why wear the hair shirt of lazin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favour of lazi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ziness is jolly conveni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2340000" y="2060640"/>
            <a:ext cx="6624720" cy="3934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p_help item@(Item cur_loc cur_link _) wq 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| cur_length &gt; li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-- Beyond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 sp wq 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| Just vis_link &lt;- lookupVisited vis cur_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 if cur_length &gt;= linkLength vis_link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p wq 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mit vis item ++ sp wq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vis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| 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 emit vis item ++ sp </a:t>
            </a:r>
            <a:r>
              <a:rPr b="1" lang="en-GB" sz="1800" spc="-1" strike="noStrike">
                <a:solidFill>
                  <a:srgbClr val="00b200"/>
                </a:solidFill>
                <a:latin typeface="Courier New"/>
              </a:rPr>
              <a:t>wq'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vis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vis’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=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b200"/>
                </a:solidFill>
                <a:latin typeface="Courier New"/>
              </a:rPr>
              <a:t>wq’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=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" y="4149720"/>
            <a:ext cx="1512720" cy="693720"/>
          </a:xfrm>
          <a:prstGeom prst="wedgeRoundRectCallout">
            <a:avLst>
              <a:gd name="adj1" fmla="val 107481"/>
              <a:gd name="adj2" fmla="val 132310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d in two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9280" y="5877000"/>
            <a:ext cx="1513080" cy="693720"/>
          </a:xfrm>
          <a:prstGeom prst="wedgeRoundRectCallout">
            <a:avLst>
              <a:gd name="adj1" fmla="val 116837"/>
              <a:gd name="adj2" fmla="val -55236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d in on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primoridal so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8062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PCA, Sept 1987: initial meeting. A dozen lazy functional programmers, wanting to agree on a common langua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itable for teaching, research, and appl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lly-described syntax and semant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ely availabl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body the apparent consensus of ide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uce unnecessary divers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d to...a succession of face-to-face meetin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ril 1990: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askell 1.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port releas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ditors: Hudak, Wadl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ator libra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ursive values are jolly usefu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1476360" y="2004840"/>
            <a:ext cx="6838920" cy="1463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ype Parser a = String -&gt; (a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xp :: Parser Exp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xp = lit “let” &lt;+&gt; decls &lt;+&gt; lit “in” &lt;+&gt; 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||| exp &lt;+&gt; aex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||| ...etc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81280" y="3543480"/>
            <a:ext cx="628596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is is illegal in ML, because of the value rest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an only be made legal by eta expan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ut that breaks the Parser abstraction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d is extremely grueso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76360" y="5229360"/>
            <a:ext cx="683892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xp 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it “let” &lt;+&gt; decls &lt;+&gt; lit “in” &lt;+&gt; 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||| exp &lt;+&gt; aex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||| ...etc...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</a:rPr>
              <a:t>)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57400" y="2060640"/>
            <a:ext cx="6438960" cy="30200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The big one...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aziness keeps you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ne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ry call-by-value language has given into the siren call of side effec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in Haskel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print “yes”) + (print “no”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st does not make sense.  Even worse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print “yes”, print “no”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 effects (I/O, references, exceptions) are just not an op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: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rolonged embarrassm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Stream-based I/O, continuation I/O..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NO DEALS WIH THE DEV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667640" y="4221000"/>
            <a:ext cx="1324080" cy="25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adic I/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589040"/>
            <a:ext cx="7696080" cy="22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value of type (</a:t>
            </a:r>
            <a:r>
              <a:rPr b="1" lang="en-US" sz="3200" spc="-1" strike="noStrike">
                <a:solidFill>
                  <a:srgbClr val="00b200"/>
                </a:solidFill>
                <a:latin typeface="Courier New"/>
              </a:rPr>
              <a:t>IO 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is an “</a:t>
            </a:r>
            <a:r>
              <a:rPr b="1" lang="en-US" sz="3200" spc="-1" strike="noStrike">
                <a:solidFill>
                  <a:srgbClr val="00b200"/>
                </a:solidFill>
                <a:latin typeface="Tahoma"/>
              </a:rPr>
              <a:t>actio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” that, when performed, may do some input/output before delivering a result of type 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1333440" y="4189320"/>
            <a:ext cx="64771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getChar :: IO Ch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utChar :: Char -&gt; IO 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ing I/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3048120"/>
            <a:ext cx="7924680" cy="26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rogram is a single I/O a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nning the program performs the a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’t do I/O from pure cod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: clean separation of pure code from imperative co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920240"/>
            <a:ext cx="420408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main :: IO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necting I/O oper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1827720"/>
            <a:ext cx="8382240" cy="947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&gt;&gt;=)  :: IO a -&gt; (a -&gt; IO b) -&gt; IO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turn :: a -&gt; IO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13400" y="2983680"/>
            <a:ext cx="6215760" cy="2531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getChar   &gt;&gt;=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\a 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getChar   &gt;&gt;=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\b 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putChar b &gt;&gt;=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\() 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return (a,b)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</a:rPr>
              <a:t>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77840" y="2076840"/>
            <a:ext cx="3838320" cy="1557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etChar   &gt;&gt;= \a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etChar   &gt;&gt;= \b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utchar b &gt;&gt;= \()-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eturn (a,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854720"/>
            <a:ext cx="3581640" cy="2288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200"/>
                </a:solidFill>
                <a:latin typeface="Courier New"/>
              </a:rPr>
              <a:t>do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00b2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 &lt;- getCh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b &lt;- getCh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utchar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eturn (a,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2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22280" y="242064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=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do-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44193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ntactic sugar on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sy translation into (&gt;&gt;=), retu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liberately imperative “look and feel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stru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484280"/>
            <a:ext cx="784836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lues of type (IO t) are first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 we can define our own “control structures”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924280"/>
            <a:ext cx="7620120" cy="22885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1814400"/>
                <a:tab algn="l" pos="2666880"/>
                <a:tab algn="l" pos="3529080"/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ever :: IO () -&gt; IO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1814400"/>
                <a:tab algn="l" pos="2666880"/>
                <a:tab algn="l" pos="3529080"/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ever a = do { a; forever a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1814400"/>
                <a:tab algn="l" pos="2666880"/>
                <a:tab algn="l" pos="3529080"/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1814400"/>
                <a:tab algn="l" pos="2666880"/>
                <a:tab algn="l" pos="3529080"/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epeatN :: Int -&gt; IO () -&gt; IO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1814400"/>
                <a:tab algn="l" pos="2666880"/>
                <a:tab algn="l" pos="3529080"/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epeatN 0 a = return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1814400"/>
                <a:tab algn="l" pos="2666880"/>
                <a:tab algn="l" pos="3529080"/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epeatN n a = do { a; repeatN (n-1) a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76360" y="558972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epeatN 10 (putChar ‘x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sing the ide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614520" y="1528920"/>
            <a:ext cx="7913520" cy="47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monad consist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type constructor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ind :: M a -&gt; (a -&gt; M b) -&gt; M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it :: a -&gt; M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US some per-monad operations (e.g. getChar :: IO Ch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703dff"/>
                </a:solidFill>
                <a:latin typeface="Comic Sans MS"/>
              </a:rPr>
              <a:t>There are lots of useful </a:t>
            </a:r>
            <a:r>
              <a:rPr b="0" lang="en-GB" sz="4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703dff"/>
                </a:solidFill>
                <a:latin typeface="Comic Sans MS"/>
              </a:rPr>
              <a:t>monads, not only I/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a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1484280"/>
            <a:ext cx="79866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ception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xn a = Either String a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ail :: String -&gt; Ex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ique suppl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niq a = Int -&gt; (a, Int)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new :: Uniq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arsers</a:t>
            </a:r>
            <a:br>
              <a:rPr sz="28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arser a = String -&gt; [(a,String)]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lt :: Parser a -&gt; Parser a -&gt; Parse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36760" y="5661000"/>
            <a:ext cx="6303960" cy="11912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nad combinators (e.g. sequence, fold, etc), and do-notation, work over all mon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1341360"/>
            <a:ext cx="936720" cy="5327640"/>
          </a:xfrm>
          <a:prstGeom prst="downArrow">
            <a:avLst>
              <a:gd name="adj1" fmla="val 40657"/>
              <a:gd name="adj2" fmla="val 31624"/>
            </a:avLst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547640" y="1413000"/>
            <a:ext cx="64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23440" y="126828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pt 87: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kick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547640" y="2349360"/>
            <a:ext cx="64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34600" y="21337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pr 90: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skell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1680" y="2708280"/>
            <a:ext cx="54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y 92: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skell 1.2 (SIGPLAN Notices) (164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13360" y="2414520"/>
            <a:ext cx="32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ug 91: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skell 1.1 (153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68360" y="3933720"/>
            <a:ext cx="48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1000" indent="-98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y 96: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skell 1.3.  Monadic I/O, separate library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68360" y="4510080"/>
            <a:ext cx="48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1000" indent="-98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pr 97: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skell 1.4 (213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68360" y="5222880"/>
            <a:ext cx="48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1000" indent="-98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b 99: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skell 98 (240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68360" y="6165720"/>
            <a:ext cx="48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1000" indent="-98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c 02: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skell 98 revised (260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547640" y="6308640"/>
            <a:ext cx="64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547640" y="5373720"/>
            <a:ext cx="64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547640" y="4724280"/>
            <a:ext cx="64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547640" y="4149720"/>
            <a:ext cx="64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547640" y="2924280"/>
            <a:ext cx="64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547640" y="2637000"/>
            <a:ext cx="64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573960" y="5300640"/>
            <a:ext cx="1814400" cy="1343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062040" y="4587840"/>
            <a:ext cx="23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Boo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type check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571680" y="1488960"/>
            <a:ext cx="8001000" cy="222840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cExpr :: Expr -&gt; Tc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cExpr (App fun ar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= do { fun_ty &lt;- tcExpr f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 arg_ty &lt;- tcExpr a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 res_ty &lt;- newTy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 unify fun_ty (arg_ty --&gt; res_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 return res_ty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63640" y="3860640"/>
            <a:ext cx="662940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c monad hides all the plumb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ceptions and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urrent substitution (unif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yp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urrent source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nufacturing fresh typ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12000" y="5300640"/>
            <a:ext cx="2678040" cy="71172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bust to changes in plumb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O mona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1484280"/>
            <a:ext cx="7842240" cy="47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IO monad allows controlled introduction of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ther effect-ful language features (not just I/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at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newRef :: IO (IORef a)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ead   :: IORef s a -&gt; IO a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rite  :: IORef s a -&gt; a -&gt; IO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currency</a:t>
            </a: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k     :: IO a -&gt; IO ThreadId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newMVar  :: IO (MVar a)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akeMVar :: MVar a -&gt; IO a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utMVar  :: MVar a -&gt; a -&gt; IO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have we achiev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12682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bility to mix imperative and purely-functional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00000" y="2349360"/>
            <a:ext cx="5867640" cy="236232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71440" y="2516040"/>
            <a:ext cx="5334120" cy="2057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urely-functional 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27640" y="1916280"/>
            <a:ext cx="2590920" cy="430560"/>
          </a:xfrm>
          <a:prstGeom prst="wedgeRoundRectCallout">
            <a:avLst>
              <a:gd name="adj1" fmla="val -42347"/>
              <a:gd name="adj2" fmla="val 199370"/>
              <a:gd name="adj3" fmla="val 16667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ative “ski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have we achiev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1600200"/>
            <a:ext cx="80010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without ruining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laws of pure functional programming remain unconditionally true, even of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et x=e in ...x....x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3399"/>
                </a:solidFill>
                <a:latin typeface="Comic Sans MS"/>
              </a:rPr>
              <a:t>....e....e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we have not achiev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1600200"/>
            <a:ext cx="800100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erative programming is no easier than it always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do { ...; x &lt;- f 1; y &lt;- f 2; ...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?=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do { ...; y &lt;- f 2; x &lt;- f 1; ...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but there’s less of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and actions are first-class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challeng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1484280"/>
            <a:ext cx="813096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pen problem: the IO monad has become Haskell’s sin-bin.  (Whenever we don’t understand something, we toss it in the IO mona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estering s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nsafePerformIO :: IO a -&gt;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angerous, indeed type-unsafe, but occasionally indispens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anted: finer-grain effect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.g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 {read x, write y}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challenge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1484280"/>
            <a:ext cx="81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would you pref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2129760"/>
            <a:ext cx="288000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 { a &lt;- f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&lt;- g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 a b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859280" y="2489760"/>
            <a:ext cx="259236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 (f x) (g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3614760"/>
            <a:ext cx="813096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a commutative monad, it does not matter whether we do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(f x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first or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(g y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Commutativ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monad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re very common.  (Environment, unique supply, random number generation.)  For these, monads over-sequential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anted: theory and notation for some cool comprom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ad 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ads are a beautiful example of a theory-into-practice (more the thought pattern than actual theorem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dden effects are lik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ire-purch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pay nothing now, but it catches up with you in the e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forced purity is lik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aying up fro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painful on Day 1, but usually worth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e made one big mistake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r biggest mist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758960"/>
            <a:ext cx="7696080" cy="3054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the scary term “monad”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ther tha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rm fuzzy thing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at really matters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Lazines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Purity and monad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Type classes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Sexy typ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943280" y="1233360"/>
            <a:ext cx="536544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 flipH="1" flipV="1" rot="10800000">
            <a:off x="1835280" y="1125360"/>
            <a:ext cx="2736720" cy="3097440"/>
          </a:xfrm>
          <a:custGeom>
            <a:avLst/>
            <a:gdLst>
              <a:gd name="textAreaLeft" fmla="*/ 0 w 2736720"/>
              <a:gd name="textAreaRight" fmla="*/ 2736720 w 2736720"/>
              <a:gd name="textAreaTop" fmla="*/ 360 h 3097440"/>
              <a:gd name="textAreaBottom" fmla="*/ 3098160 h 3097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803" stAng="10800000" swAng="5400000"/>
                <a:lnTo>
                  <a:pt x="14336" y="3357"/>
                </a:lnTo>
                <a:lnTo>
                  <a:pt x="14336" y="0"/>
                </a:lnTo>
                <a:lnTo>
                  <a:pt x="21600" y="6079"/>
                </a:lnTo>
                <a:lnTo>
                  <a:pt x="14336" y="12158"/>
                </a:lnTo>
                <a:lnTo>
                  <a:pt x="14336" y="8801"/>
                </a:lnTo>
                <a:lnTo>
                  <a:pt x="12427" y="8801"/>
                </a:lnTo>
                <a:arcTo wR="6983" hR="3359" stAng="16200000" swAng="-5400000"/>
                <a:lnTo>
                  <a:pt x="5444" y="21600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0800000">
            <a:off x="755280" y="3428640"/>
            <a:ext cx="3816360" cy="2376360"/>
          </a:xfrm>
          <a:prstGeom prst="leftArrow">
            <a:avLst>
              <a:gd name="adj1" fmla="val 50000"/>
              <a:gd name="adj2" fmla="val 40149"/>
            </a:avLst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kel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16360" y="1197000"/>
            <a:ext cx="36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askell 9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cu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stent across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ful for teaching,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16360" y="4365720"/>
            <a:ext cx="3824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kell +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amic, exc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stable, undocumented, implementations va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LPJ conclu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urity is more important than, and quite independent of, lazin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next ML will be pure, with effects only via monads.  The next Haskell will be strict, but still pu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ill unclear exactly how to add laziness to a strict language.  For example, do we want a type distinction between (say) a lazy Int and a strict In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238400" y="2711520"/>
            <a:ext cx="6665400" cy="1434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ype class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571680" y="1844640"/>
            <a:ext cx="7169040" cy="46677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2421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Eq a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421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==) :: a -&gt; a -&gt; B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421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421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stance Eq Int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421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1 == i2 = eqInt i1 i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421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421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stance (Eq a) =&gt; Eq [a]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421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[]     == []     =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421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x:xs) == (y:ys) = (x == y) &amp;&amp; (xs == 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421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421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421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ber :: Eq a =&gt; a -&gt; [a] -&gt; B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421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ber x []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=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421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ber x (y:y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| x==y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=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421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| otherwise = member x 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76360" y="1483920"/>
            <a:ext cx="3382920" cy="15570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lly, just a neat way to get systematic overloading of (==), read, show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71680" y="1413000"/>
            <a:ext cx="8001000" cy="527760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 Eq a = MkEq (a-&gt;a-&gt;Bo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q (MkEq e) =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EqInt :: Eq 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EqInt = MkEq eq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EqList :: Eq a -&gt; Eq [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EqList (MkEq e) = MkEq 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ere el []     []     =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l (x:xs) (y:ys) = x `e` y &amp;&amp; xs `el` 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ber ::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Eq a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-&gt; a -&gt; [a] -&gt; B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ber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x []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=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ber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x (y:y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eq 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x y  =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| otherwise = member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x 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plementing type class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6588000" y="1622520"/>
            <a:ext cx="1871640" cy="889560"/>
          </a:xfrm>
          <a:prstGeom prst="wedgeRoundRectCallout">
            <a:avLst>
              <a:gd name="adj1" fmla="val -131421"/>
              <a:gd name="adj2" fmla="val -53111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ass witnessed by a “dictionary”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924360" y="2028960"/>
            <a:ext cx="2305080" cy="889560"/>
          </a:xfrm>
          <a:prstGeom prst="wedgeRoundRectCallout">
            <a:avLst>
              <a:gd name="adj1" fmla="val -63893"/>
              <a:gd name="adj2" fmla="val 77384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stance declarations create diction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732720" y="4581360"/>
            <a:ext cx="1584360" cy="1415160"/>
          </a:xfrm>
          <a:prstGeom prst="wedgeRoundRectCallout">
            <a:avLst>
              <a:gd name="adj1" fmla="val -102791"/>
              <a:gd name="adj2" fmla="val 20699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verloaded functions take extra dictionary paramet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 classes over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 classes are the most unusual feature of Haskell’s type sy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1187280" y="2781360"/>
            <a:ext cx="6624720" cy="3095640"/>
          </a:xfrm>
          <a:custGeom>
            <a:avLst/>
            <a:gdLst/>
            <a:ahLst/>
            <a:rect l="l" t="t" r="r" b="b"/>
            <a:pathLst>
              <a:path w="4173" h="1950">
                <a:moveTo>
                  <a:pt x="0" y="0"/>
                </a:moveTo>
                <a:lnTo>
                  <a:pt x="0" y="1950"/>
                </a:lnTo>
                <a:lnTo>
                  <a:pt x="4173" y="195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58920" y="2781360"/>
            <a:ext cx="6265800" cy="3024000"/>
          </a:xfrm>
          <a:custGeom>
            <a:avLst/>
            <a:gdLst/>
            <a:ahLst/>
            <a:rect l="l" t="t" r="r" b="b"/>
            <a:pathLst>
              <a:path w="3947" h="1905">
                <a:moveTo>
                  <a:pt x="0" y="1905"/>
                </a:moveTo>
                <a:lnTo>
                  <a:pt x="182" y="1860"/>
                </a:lnTo>
                <a:lnTo>
                  <a:pt x="273" y="90"/>
                </a:lnTo>
                <a:lnTo>
                  <a:pt x="908" y="90"/>
                </a:lnTo>
                <a:lnTo>
                  <a:pt x="1134" y="1814"/>
                </a:lnTo>
                <a:lnTo>
                  <a:pt x="2087" y="1633"/>
                </a:lnTo>
                <a:lnTo>
                  <a:pt x="2949" y="90"/>
                </a:lnTo>
                <a:lnTo>
                  <a:pt x="3947" y="0"/>
                </a:lnTo>
              </a:path>
            </a:pathLst>
          </a:custGeom>
          <a:noFill/>
          <a:ln w="3816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4653000"/>
            <a:ext cx="2376360" cy="397080"/>
          </a:xfrm>
          <a:prstGeom prst="wedgeRoundRectCallout">
            <a:avLst>
              <a:gd name="adj1" fmla="val -4847"/>
              <a:gd name="adj2" fmla="val 211412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0920" y="3228840"/>
            <a:ext cx="2376360" cy="397080"/>
          </a:xfrm>
          <a:prstGeom prst="wedgeRoundRectCallout">
            <a:avLst>
              <a:gd name="adj1" fmla="val 36699"/>
              <a:gd name="adj2" fmla="val -120740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ld enthusi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67480" y="59612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12000" y="59612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8840" y="59626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293440" y="59626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97280" y="6381720"/>
            <a:ext cx="3349440" cy="397080"/>
          </a:xfrm>
          <a:prstGeom prst="wedgeRoundRectCallout">
            <a:avLst>
              <a:gd name="adj1" fmla="val -39060"/>
              <a:gd name="adj2" fmla="val -229527"/>
              <a:gd name="adj3" fmla="val 16667"/>
            </a:avLst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plementation beg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59280" y="4437000"/>
            <a:ext cx="1152360" cy="397080"/>
          </a:xfrm>
          <a:prstGeom prst="wedgeRoundRectCallout">
            <a:avLst>
              <a:gd name="adj1" fmla="val -29671"/>
              <a:gd name="adj2" fmla="val 218657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12000" y="4414680"/>
            <a:ext cx="1152360" cy="989640"/>
          </a:xfrm>
          <a:prstGeom prst="wedgeRoundRectCallout">
            <a:avLst>
              <a:gd name="adj1" fmla="val -139222"/>
              <a:gd name="adj2" fmla="val -5893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ck, hack, h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04000" y="2932200"/>
            <a:ext cx="1584360" cy="989640"/>
          </a:xfrm>
          <a:prstGeom prst="wedgeRoundRectCallout">
            <a:avLst>
              <a:gd name="adj1" fmla="val -82550"/>
              <a:gd name="adj2" fmla="val -48875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y, what’s the big de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 classes are usefu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classes have proved extraordinarily convenient in pract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63600" indent="-363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ality, ordering, serialisation, numerical operations,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nd not just the built-in ones (e.g. pretty-printing, time-varying valu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63600" indent="-363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adic oper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1908000" y="4365720"/>
            <a:ext cx="6016680" cy="16185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Monad m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:: a -&gt; m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&gt;&gt;=)  :: m a -&gt; (a -&gt; m b) -&gt; m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   :: String -&gt; m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490920" y="5661000"/>
            <a:ext cx="4467600" cy="3682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te the higher-kinded type variable,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ckche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39560" y="3428640"/>
            <a:ext cx="6327720" cy="29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ghci&gt;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quickCheck propRev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K: passed 100 tests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ghci&gt;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quickCheck propRevApp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K: passed 100 tes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Quickcheck (which is just a Haskell 98 librar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orks out how many argu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nerates suitable test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uns te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934920" y="1341360"/>
            <a:ext cx="7274160" cy="19234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pRev :: [Int] -&gt; B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pRev xs = reverse (reverse xs) == x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pRevApp :: [Int] -&gt; [Int] -&gt; B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pRevApp xs ys = reverse (xs++ys) =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verse ys ++ reverse x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ckche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934920" y="1341360"/>
            <a:ext cx="7274160" cy="436284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uickCheck :: Test a =&gt; a -&gt; IO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Test a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st :: a -&gt; Rand -&gt; B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Arby a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rby :: Rand -&gt;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stance (Arby a, Test b) =&gt; Test (a-&gt;b)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st f r = test (f (arby r1)) 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ere (r1,r2) = split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stance Test Bool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st b r =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xtensib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ke OOP, one can add new data types “later”.  E.g. QuickCheck works for your new data types (provided you make them instances of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Arby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..but also not like OO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-based disp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3284280"/>
            <a:ext cx="76960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bit like OOP, except that method suite passed separately?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ouble :: Num a =&gt; a -&gt; a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ouble x = x+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: type classes implement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type-bas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ispatch, not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value-bas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ispat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1563840" y="1268280"/>
            <a:ext cx="6016320" cy="16185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Num a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+)         :: a -&gt; a -&gt;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gate      :: a -&gt;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romInteger :: Integer -&gt;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lections on the proces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1800" indent="-63180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dea of having a fixed standard (Haskell 98) in parallel with an evolving language, has worked really we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31800" indent="-63180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al semantics only for fragments (but see [Faxen2002]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31800" indent="-63180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mallish, rather pointy-headed user-base makes Haskell nimble.  Haskell has evolved rapidly and continues to do s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31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tto: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void success at all co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31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-based disp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58920" y="2852280"/>
            <a:ext cx="73454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double :: Num a =&gt; a -&gt; a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double x = 2*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mean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double :: Num a -&gt; a -&gt; a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double d x = mul d (fromInteger d 2) 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overloaded value is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returned by </a:t>
            </a:r>
            <a:r>
              <a:rPr b="1" i="1" lang="en-GB" sz="2800" spc="-1" strike="noStrike">
                <a:solidFill>
                  <a:srgbClr val="000000"/>
                </a:solidFill>
                <a:latin typeface="Courier New"/>
              </a:rPr>
              <a:t>fromInteg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ot passed to it.  It is the dictionary (and type) that are passed as argument to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romInteg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1563840" y="1268280"/>
            <a:ext cx="6016320" cy="14655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Num a 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+)         :: a -&gt; a -&gt;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gate      :: a -&gt;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romInteger :: Integer -&gt;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-based disp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 the links to intensional polymorphism are much closer than the links to OO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dictionary is like a proxy for the (interesting aspects of) the type argument of a polymorphic func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 :: forall a. a -&gt; I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 t (x::t) = ...typecase t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 :: forall a. C a =&gt; a -&gt; I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 x = ...(call method of C)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6805440" y="3159000"/>
            <a:ext cx="1797120" cy="989640"/>
          </a:xfrm>
          <a:prstGeom prst="wedgeRoundRectCallout">
            <a:avLst>
              <a:gd name="adj1" fmla="val -80902"/>
              <a:gd name="adj2" fmla="val 17416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tensional polymorph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093080" y="4508640"/>
            <a:ext cx="1796760" cy="397080"/>
          </a:xfrm>
          <a:prstGeom prst="wedgeRoundRectCallout">
            <a:avLst>
              <a:gd name="adj1" fmla="val -100157"/>
              <a:gd name="adj2" fmla="val 75087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sk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39360" y="5950080"/>
            <a:ext cx="68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.f. Crary et al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 (ICFP98), Baars et al (ICFP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ol generalis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ulti-parameter type cla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-kinded type variables (a.k.a. constructor class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verlapping insta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unctional dependencies (Jones ESOP’00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ype classes as logic programs (Neubauer et al POPL’02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fied typ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ype classes are an example of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ualified typ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Jones thesis].  Main feat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ypes of form 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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.Q =&gt;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ualifiers Q are witnessed by run-time evid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nown examp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ype classe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evidence = tuple of method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implicit parameter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evidence = value of implicit para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extensible record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evidence = offset of field in recor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other unifying idea: Constraint Handling Rules (Stucky/Sulzmann ICFP’02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 classes 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723960" y="1484280"/>
            <a:ext cx="7696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4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uch more far-reaching idea than we first real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4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y interesting general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4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nts adopted in Isabel, Clean, Mercury, Hal, Es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4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n ques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21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nsion between desire for overlap and the open-world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21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nger of death by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596960" y="2711520"/>
            <a:ext cx="5700600" cy="1434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exy typ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xy typ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3560" y="1412640"/>
            <a:ext cx="7696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askell has become a laboratory and playground for advanced type hack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lymorphic recur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igher kinded type variables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data T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k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a = T a (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k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(T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k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a)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lymorphic functions as constructor arguments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data T = MkT (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forall a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. [a] -&gt; [a]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lymorphic functions as arbitrary function arguments (higher ranked types)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 :: (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forall a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. [a]-&gt;[a]) -&gt; 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istential types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data T =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exists a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. Show a =&gt; MkT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sexy good?  Yes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ll typed programs don’t go wro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ss mundanely (but more allusively) sexy types let you think higher thoughts and still stay [almost] san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eply higher-order fun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unct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lds and unfol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nads and monad transform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rows (now finding application in real-time reactive programmin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hort-cut defores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otstrapped data structur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sex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amas-Milner is on a cusp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an infer most-general types without any type annotations at a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ut virtually any extension destroys this proper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dding type quite modest type annotations lets us go a LOT further (as we have already seen) without losing inference for most of the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ill missing from even the sexiest Haskell i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t the typ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ubtyp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mpredicativ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stination =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4800" spc="-1" strike="noStrike" baseline="50000">
                <a:solidFill>
                  <a:srgbClr val="000000"/>
                </a:solidFill>
                <a:latin typeface="Comic Sans MS"/>
              </a:rPr>
              <a:t>w</a:t>
            </a:r>
            <a:r>
              <a:rPr b="1" lang="en-GB" sz="4800" spc="-1" strike="noStrike" baseline="-25000">
                <a:solidFill>
                  <a:srgbClr val="000000"/>
                </a:solidFill>
                <a:latin typeface="Comic Sans MS"/>
              </a:rPr>
              <a:t>&lt;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23960" y="2016000"/>
            <a:ext cx="7696080" cy="29415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pen ques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a good design for user-level type annotation that exposes the power of F</a:t>
            </a:r>
            <a:r>
              <a:rPr b="0" lang="en-GB" sz="3600" spc="-1" strike="noStrike" baseline="50000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3600" spc="-1" strike="noStrike" baseline="50000">
                <a:solidFill>
                  <a:srgbClr val="000000"/>
                </a:solidFill>
                <a:latin typeface="Comic Sans MS"/>
              </a:rPr>
              <a:t>w</a:t>
            </a:r>
            <a:r>
              <a:rPr b="1" lang="en-GB" sz="3600" spc="-1" strike="noStrike" baseline="-25000">
                <a:solidFill>
                  <a:srgbClr val="000000"/>
                </a:solidFill>
                <a:latin typeface="Comic Sans MS"/>
              </a:rPr>
              <a:t>&lt;: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but co-exists with type inferenc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2226240" y="5276880"/>
            <a:ext cx="37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.f. Didier &amp; Didier’s MLF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ice of useful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braries increasingly importan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996: Separate libraries Repor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01: Hierarchical library naming structure, increasingly popul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eign-function interface increasingly importa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993 onwards: a variety of experi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01: successful effort to standardise a FFI across implement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language large enough to be useful is dauntingly comple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"/>
          <p:cNvSpPr/>
          <p:nvPr/>
        </p:nvSpPr>
        <p:spPr>
          <a:xfrm>
            <a:off x="1835280" y="1700280"/>
            <a:ext cx="5905440" cy="3097080"/>
          </a:xfrm>
          <a:custGeom>
            <a:avLst/>
            <a:gdLst/>
            <a:ahLst/>
            <a:rect l="l" t="t" r="r" b="b"/>
            <a:pathLst>
              <a:path w="3720" h="1951">
                <a:moveTo>
                  <a:pt x="0" y="0"/>
                </a:moveTo>
                <a:lnTo>
                  <a:pt x="0" y="1951"/>
                </a:lnTo>
                <a:lnTo>
                  <a:pt x="3720" y="19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729600" y="494172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16200000">
            <a:off x="177840" y="299664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fficu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998000" y="4141800"/>
            <a:ext cx="1906200" cy="520200"/>
          </a:xfrm>
          <a:prstGeom prst="ellips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skell 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031800" y="457200"/>
            <a:ext cx="2192400" cy="520200"/>
          </a:xfrm>
          <a:prstGeom prst="ellips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ML fun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64480" y="3841200"/>
            <a:ext cx="3494520" cy="520200"/>
          </a:xfrm>
          <a:prstGeom prst="ellips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skell + sexy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"/>
          <p:cNvSpPr/>
          <p:nvPr/>
        </p:nvSpPr>
        <p:spPr>
          <a:xfrm>
            <a:off x="1835280" y="1700280"/>
            <a:ext cx="5905440" cy="3097080"/>
          </a:xfrm>
          <a:custGeom>
            <a:avLst/>
            <a:gdLst/>
            <a:ahLst/>
            <a:rect l="l" t="t" r="r" b="b"/>
            <a:pathLst>
              <a:path w="3720" h="1951">
                <a:moveTo>
                  <a:pt x="0" y="0"/>
                </a:moveTo>
                <a:lnTo>
                  <a:pt x="0" y="1951"/>
                </a:lnTo>
                <a:lnTo>
                  <a:pt x="3720" y="19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729600" y="494172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98000" y="4141800"/>
            <a:ext cx="1906200" cy="520200"/>
          </a:xfrm>
          <a:prstGeom prst="ellips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skell 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31800" y="385200"/>
            <a:ext cx="2192400" cy="520200"/>
          </a:xfrm>
          <a:prstGeom prst="ellips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ML fun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264480" y="3841200"/>
            <a:ext cx="3494520" cy="520200"/>
          </a:xfrm>
          <a:prstGeom prst="ellips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skell + sexy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68360" y="476280"/>
            <a:ext cx="5398920" cy="2289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ors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High power, but poor power/cost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parate modul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st class modules probl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g step in language &amp; compiler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ull power seldom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"/>
          <p:cNvCxnSpPr>
            <a:stCxn id="382" idx="0"/>
            <a:endCxn id="379" idx="4"/>
          </p:cNvCxnSpPr>
          <p:nvPr/>
        </p:nvCxnSpPr>
        <p:spPr>
          <a:xfrm flipH="1" flipV="1">
            <a:off x="5010840" y="4341240"/>
            <a:ext cx="389880" cy="6721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382" name=""/>
          <p:cNvSpPr/>
          <p:nvPr/>
        </p:nvSpPr>
        <p:spPr>
          <a:xfrm>
            <a:off x="2627280" y="5013360"/>
            <a:ext cx="5545080" cy="1679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Ford Cortina with alloy whe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Medium power, with good power/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odule parameterisation too w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 language support for module sign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"/>
          <p:cNvCxnSpPr>
            <a:stCxn id="380" idx="3"/>
            <a:endCxn id="378" idx="4"/>
          </p:cNvCxnSpPr>
          <p:nvPr/>
        </p:nvCxnSpPr>
        <p:spPr>
          <a:xfrm flipV="1">
            <a:off x="5867280" y="885960"/>
            <a:ext cx="1261440" cy="5814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skell has many features that overlap with what ML-style modules off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125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ype cla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125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 class universals and existenti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oes Haskell need functors anyway?  No: one seldom needs to instantiate the same functor at different argu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ut Haskell lacks a way to distribute “open” libraries, where the client provides some base modules; need module signatures and type-safe linking (e.g. PLT,Knit?).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ot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Wanted: a design with better power, but good power/weigh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capsulating it 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"/>
          <p:cNvSpPr/>
          <p:nvPr/>
        </p:nvSpPr>
        <p:spPr>
          <a:xfrm>
            <a:off x="650880" y="2971800"/>
            <a:ext cx="7842240" cy="45972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unST :: (forall s. ST s a) -&gt;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052720" y="3860640"/>
            <a:ext cx="2519280" cy="693720"/>
          </a:xfrm>
          <a:prstGeom prst="wedgeRoundRectCallout">
            <a:avLst>
              <a:gd name="adj1" fmla="val 79486"/>
              <a:gd name="adj2" fmla="val -116541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ateful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32360" y="4149720"/>
            <a:ext cx="2519280" cy="397080"/>
          </a:xfrm>
          <a:prstGeom prst="wedgeRoundRectCallout">
            <a:avLst>
              <a:gd name="adj1" fmla="val 45953"/>
              <a:gd name="adj2" fmla="val -243115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ure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42920" y="1268280"/>
            <a:ext cx="5689800" cy="131364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464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 ST s a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-- 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64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Ref :: a -&gt; ST s (STRef s a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ad   :: STRef s a -&gt; ST s a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rite  :: STRef s a -&gt; a -&gt; ST s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4869000"/>
            <a:ext cx="6912000" cy="70380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464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ort :: Ord a =&gt; [a] -&gt; [a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64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ort xs = runST (do { ..in-place sort.. }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capsulating it 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650880" y="1413000"/>
            <a:ext cx="7842240" cy="45972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unST :: (forall s. ST s a) -&gt;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700360" y="2276640"/>
            <a:ext cx="2519280" cy="397080"/>
          </a:xfrm>
          <a:prstGeom prst="wedgeRoundRectCallout">
            <a:avLst>
              <a:gd name="adj1" fmla="val 1032"/>
              <a:gd name="adj2" fmla="val -184509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er rank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867280" y="3030480"/>
            <a:ext cx="2519640" cy="397080"/>
          </a:xfrm>
          <a:prstGeom prst="wedgeRoundRectCallout">
            <a:avLst>
              <a:gd name="adj1" fmla="val -65111"/>
              <a:gd name="adj2" fmla="val -357425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n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1280" y="2997360"/>
            <a:ext cx="2519280" cy="1286280"/>
          </a:xfrm>
          <a:prstGeom prst="wedgeRoundRectCallout">
            <a:avLst>
              <a:gd name="adj1" fmla="val 2106"/>
              <a:gd name="adj2" fmla="val -142134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ecurity of encapsulation depends on parame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00000" y="4797360"/>
            <a:ext cx="3961080" cy="1582200"/>
          </a:xfrm>
          <a:prstGeom prst="wedgeRoundRectCallout">
            <a:avLst>
              <a:gd name="adj1" fmla="val -37944"/>
              <a:gd name="adj2" fmla="val -77476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rametricity depends on there being few polymorphic functions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e.g.. f:: a-&gt;a means f is the identity function or bott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002200" y="3716280"/>
            <a:ext cx="3962520" cy="1286280"/>
          </a:xfrm>
          <a:prstGeom prst="wedgeRoundRectCallout">
            <a:avLst>
              <a:gd name="adj1" fmla="val -53194"/>
              <a:gd name="adj2" fmla="val 69078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d that depends on type classes to make non-parametric operations explicit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e.g. f :: Ord a =&gt; a -&gt;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867280" y="5373720"/>
            <a:ext cx="2592360" cy="989640"/>
          </a:xfrm>
          <a:prstGeom prst="wedgeRoundRectCallout">
            <a:avLst>
              <a:gd name="adj1" fmla="val -86666"/>
              <a:gd name="adj2" fmla="val -18402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it also depends on purity (no side effec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Haskell committ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1116000" y="1460520"/>
            <a:ext cx="3168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v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ennart August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ave Bar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rian Bou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arren Burt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on Fairbair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oseph Fas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dy Gord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ria Guz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Kevin Hammo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alf Hi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aul Hudak [editor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ohn Hughes [editor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880520" y="1460520"/>
            <a:ext cx="3490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omas John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rk J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ick Kiebur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ohn Launchb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rik Meij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ishiyur Nikh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ohn Pet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imon Peyton Jones [editor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ike Re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astair R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lin Runci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hilip Wadler [editor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avid 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onathan Yo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377080" y="2575080"/>
            <a:ext cx="4389840" cy="17089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 Sans MS"/>
              </a:rPr>
              <a:t>Syntax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yntax is not importa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arsing is the easy bit of a compil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ntax is not importa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Syntax is the user interface of a langu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sing is the easy bit of a compil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The parser is often the trickiest bit of a compil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042920" y="1268280"/>
            <a:ext cx="5113440" cy="936720"/>
            <a:chOff x="1042920" y="1268280"/>
            <a:chExt cx="5113440" cy="936720"/>
          </a:xfrm>
        </p:grpSpPr>
        <p:sp>
          <p:nvSpPr>
            <p:cNvPr id="193" name=""/>
            <p:cNvSpPr/>
            <p:nvPr/>
          </p:nvSpPr>
          <p:spPr>
            <a:xfrm>
              <a:off x="1042920" y="1341360"/>
              <a:ext cx="5113440" cy="719280"/>
            </a:xfrm>
            <a:prstGeom prst="line">
              <a:avLst/>
            </a:prstGeom>
            <a:ln w="190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116000" y="1268280"/>
              <a:ext cx="4968720" cy="936720"/>
            </a:xfrm>
            <a:prstGeom prst="line">
              <a:avLst/>
            </a:prstGeom>
            <a:ln w="190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116000" y="3644640"/>
            <a:ext cx="5113440" cy="936360"/>
            <a:chOff x="1116000" y="3644640"/>
            <a:chExt cx="5113440" cy="936360"/>
          </a:xfrm>
        </p:grpSpPr>
        <p:sp>
          <p:nvSpPr>
            <p:cNvPr id="196" name=""/>
            <p:cNvSpPr/>
            <p:nvPr/>
          </p:nvSpPr>
          <p:spPr>
            <a:xfrm>
              <a:off x="1116000" y="3717720"/>
              <a:ext cx="5113440" cy="718920"/>
            </a:xfrm>
            <a:prstGeom prst="line">
              <a:avLst/>
            </a:prstGeom>
            <a:ln w="190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1189080" y="3644640"/>
              <a:ext cx="4968720" cy="936360"/>
            </a:xfrm>
            <a:prstGeom prst="line">
              <a:avLst/>
            </a:prstGeom>
            <a:ln w="190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10:39:26Z</dcterms:created>
  <dc:creator>Peyton Jones</dc:creator>
  <dc:description/>
  <dc:language>en-US</dc:language>
  <cp:lastModifiedBy>Peyton Jones</cp:lastModifiedBy>
  <dcterms:modified xsi:type="dcterms:W3CDTF">2003-06-04T23:04:40Z</dcterms:modified>
  <cp:revision>84</cp:revision>
  <dc:subject/>
  <dc:title>Slide 1</dc:title>
</cp:coreProperties>
</file>